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9AF60-F205-4140-9D0F-366622CB5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7F4F9-4F22-4B5B-AF83-E507D5FFD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B6DDA-E504-4CD8-B5E1-E2CB7D82F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3A612-526C-4177-A896-B3E3E6E5B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9898601-DE50-48E9-B99A-23765F4F83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12D4304-1911-4DD1-B2C9-B541E07712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7901260-A280-497F-B850-C6C541507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2962EC7-4933-4DD0-9D1B-870F117F6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C2C3F7C-1465-45E1-B985-D70269386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E677DF3-6E30-47E5-804A-17BD799B3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C760825-A826-4313-A2ED-D4274A955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EE6D3-D582-4699-8C73-F461A919E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B2F987E-35C9-463A-94EA-F958E6763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61B4D90-BDE1-4195-867F-C98AA8387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412F8CE-C645-415A-A5B3-02FA61934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438A3FD-CF62-4101-9616-862E8EDCBC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5828B51-AE44-4C00-B1F7-BE1ACCEE82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7C397-31EF-48E8-BF19-B43DE8942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C78C3-9585-4E21-A154-242188E86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7A372-58C8-41FB-825E-867413344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104AD-3FE9-421D-986D-607661295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3C1F3-02C1-49F9-AC1D-61CD7E12C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DAAFB-DD93-41CC-BDE9-FDACA8CB8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C4C14-BF33-416E-AF62-9A9235F22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EA288-44ED-4920-94F6-6B97977857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464DE-1521-4668-B170-1CF659EE927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mk:@MSITStore:D:%5CTutorial%5Ccase_studies%5Ccasestudies.chm::/chisq_intro.htm" TargetMode="External"/><Relationship Id="rId2" Type="http://schemas.openxmlformats.org/officeDocument/2006/relationships/hyperlink" Target="mk:@MSITStore:D:%5CTutorial%5Ccase_studies%5Ccasestudies.chm::/binom_intro.htm" TargetMode="External"/><Relationship Id="rId3" Type="http://schemas.openxmlformats.org/officeDocument/2006/relationships/hyperlink" Target="mk:@MSITStore:D:%5CTutorial%5Ccase_studies%5Ccasestudies.chm::/runs_intro.htm"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TENTS OF SPSS</a:t>
            </a:r>
            <a:endParaRPr b="0" lang="en-US" sz="4400" spc="-1" strike="noStrike">
              <a:solidFill>
                <a:srgbClr val="e3e3ff"/>
              </a:solidFill>
              <a:latin typeface="Arial"/>
            </a:endParaRPr>
          </a:p>
        </p:txBody>
      </p:sp>
      <p:sp>
        <p:nvSpPr>
          <p:cNvPr id="12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view of SPSS for window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Function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Analy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 –tests</a:t>
            </a:r>
            <a:br>
              <a:rPr sz="4000"/>
            </a:br>
            <a:r>
              <a:rPr b="0" lang="en-US" sz="4000" spc="-1" strike="noStrike">
                <a:solidFill>
                  <a:srgbClr val="e3e3ff"/>
                </a:solidFill>
                <a:latin typeface="Arial"/>
              </a:rPr>
              <a:t>The paired Samples T - test</a:t>
            </a:r>
            <a:endParaRPr b="0" lang="en-US" sz="40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se we wish to compare the means of two variables for a single group. For example, suppose the quality control department of a company wants to determine the impact of training given to a group of 10 workers . First, the record of the number of units produced on a particular day is kept then the workers are sent for training and the number of units produced by them on the day following the training is recorded. Test the null hypothesis is that there is no change of productivity after training.</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the sample data file gb-3_0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Runs Test Table with a Custom Cut Point </a:t>
            </a:r>
            <a:endParaRPr b="0" lang="en-US" sz="4000" spc="-1" strike="noStrike">
              <a:solidFill>
                <a:srgbClr val="e3e3ff"/>
              </a:solidFill>
              <a:latin typeface="Arial"/>
            </a:endParaRPr>
          </a:p>
        </p:txBody>
      </p:sp>
      <p:sp>
        <p:nvSpPr>
          <p:cNvPr id="3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ird cut point is the custom value of 8. Recall that this test value is actually the first of the two modes of the distribution. There are 11 observed runs with this cut point. The Z value is 0, indicating that 11 runs were expected by chance alone.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with a mode of 12, we cannot reject the null hypothesis that the order of the ratings above and below the modal value of 8 is random.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ummary</a:t>
            </a:r>
            <a:endParaRPr b="0" lang="en-US" sz="4400" spc="-1" strike="noStrike">
              <a:solidFill>
                <a:srgbClr val="e3e3ff"/>
              </a:solidFill>
              <a:latin typeface="Arial"/>
            </a:endParaRPr>
          </a:p>
        </p:txBody>
      </p:sp>
      <p:sp>
        <p:nvSpPr>
          <p:cNvPr id="3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test tables demonstrate that the results of the runs test may depend on your choice of cut point. In this example, the order of the ratings with respect to the median is not random. On the other hand, the same ratings do not show any order with respect to either modal value. Using the runs test, you discovered that whether the test finds that ratings are related to time spent browsing depends on the cut point.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that the test variable is composed of integer ratings data from 0 to 20, it's probably safe to treat the site ratings as ordinal. Thus, the results of the two "mode" tests stand, and you can proceed as though the usability scores are independent of time spent browsing.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lated Procedure</a:t>
            </a:r>
            <a:endParaRPr b="0" lang="en-US" sz="4400" spc="-1" strike="noStrike">
              <a:solidFill>
                <a:srgbClr val="e3e3ff"/>
              </a:solidFill>
              <a:latin typeface="Arial"/>
            </a:endParaRPr>
          </a:p>
        </p:txBody>
      </p:sp>
      <p:sp>
        <p:nvSpPr>
          <p:cNvPr id="3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should use the Runs Test procedure when you want to test the hypothesis that the values of a variable are ordered randomly with respect to a cut point of your choosing. The default cut point is the median; however, you can also select the mean, the mode, or even a custom value. Optionally, you can request descriptive statistics and/or quartiles of the test variable.</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uns Test is often used as a precursor to running tests that compare the means of two or more groups, including: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dependent-Samples T Test procedure.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ne-Way ANOVA procedure.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wo-Independent-Samples Tests procedure.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ests for Several Independent Samples procedure.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ne-Sample Kolmogorov-Smirnov Procedure </a:t>
            </a:r>
            <a:endParaRPr b="0" lang="en-US" sz="4000" spc="-1" strike="noStrike">
              <a:solidFill>
                <a:srgbClr val="e3e3ff"/>
              </a:solidFill>
              <a:latin typeface="Arial"/>
            </a:endParaRPr>
          </a:p>
        </p:txBody>
      </p:sp>
      <p:sp>
        <p:nvSpPr>
          <p:cNvPr id="3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e-Sample Kolmogorov-Smirnov procedure is used to test the null hypothesis that a sample comes from a particular distribution. It does this by finding the largest difference (in absolute value) between two cumulative distribution functions (CDFs)--one computed directly from the data; the other, from mathematical theory. Four theoretical distribution functions are available-- normal, uniform, Poisson, and exponential. Optionally, descriptive statistics and/or quartiles of the test variable can be display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ssessing Goodness of Fit </a:t>
            </a:r>
            <a:endParaRPr b="0" lang="en-US" sz="4400" spc="-1" strike="noStrike">
              <a:solidFill>
                <a:srgbClr val="e3e3ff"/>
              </a:solidFill>
              <a:latin typeface="Arial"/>
            </a:endParaRPr>
          </a:p>
        </p:txBody>
      </p:sp>
      <p:sp>
        <p:nvSpPr>
          <p:cNvPr id="3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nsurance analyst wants to model the number of automobile accidents per driver. She has randomly sampled data on drivers in a certain region and uses the Kolmogorov-Smirnov test to confirm that the number of accidents follows a Poisson distribu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example uses the file autoaccidents.sav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unning the Analysis </a:t>
            </a:r>
            <a:endParaRPr b="0" lang="en-US" sz="4400" spc="-1" strike="noStrike">
              <a:solidFill>
                <a:srgbClr val="e3e3ff"/>
              </a:solidFill>
              <a:latin typeface="Arial"/>
            </a:endParaRPr>
          </a:p>
        </p:txBody>
      </p:sp>
      <p:sp>
        <p:nvSpPr>
          <p:cNvPr id="3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begin the analysis, from the menus choos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alyze</a:t>
            </a:r>
            <a:br>
              <a:rPr sz="2800"/>
            </a:br>
            <a:r>
              <a:rPr b="0" lang="en-US" sz="2800" spc="-1" strike="noStrike">
                <a:solidFill>
                  <a:srgbClr val="ffffff"/>
                </a:solidFill>
                <a:latin typeface="Arial"/>
              </a:rPr>
              <a:t>   Nonparametric Tests</a:t>
            </a:r>
            <a:br>
              <a:rPr sz="2800"/>
            </a:br>
            <a:r>
              <a:rPr b="0" lang="en-US" sz="2800" spc="-1" strike="noStrike">
                <a:solidFill>
                  <a:srgbClr val="ffffff"/>
                </a:solidFill>
                <a:latin typeface="Arial"/>
              </a:rPr>
              <a:t>    1-Sample K-S...</a:t>
            </a:r>
            <a:br>
              <a:rPr sz="2800"/>
            </a:br>
            <a:r>
              <a:rPr b="0" lang="en-US" sz="2800" spc="-1" strike="noStrike">
                <a:solidFill>
                  <a:srgbClr val="ffffff"/>
                </a:solidFill>
                <a:latin typeface="Arial"/>
              </a:rPr>
              <a:t>Select Number of accidents past 5 years as the test variabl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select Normal, and select Poisson as the test distribut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lick OK.</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ne-Sample Kolmogorov-Smirnov Test Table </a:t>
            </a:r>
            <a:endParaRPr b="0" lang="en-US" sz="4000" spc="-1" strike="noStrike">
              <a:solidFill>
                <a:srgbClr val="e3e3ff"/>
              </a:solidFill>
              <a:latin typeface="Arial"/>
            </a:endParaRPr>
          </a:p>
        </p:txBody>
      </p:sp>
      <p:sp>
        <p:nvSpPr>
          <p:cNvPr id="3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stribution is based on data from 500 randomly sampled drivers. The sample size figures into the test statistic below.</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Poisson distribution is indexed by only one parameter--the mean. This sample of drivers averaged about 1.72 accidents over the past five yea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ne-Sample Kolmogorov-Smirnov Test Table</a:t>
            </a:r>
            <a:endParaRPr b="0" lang="en-US" sz="4000" spc="-1" strike="noStrike">
              <a:solidFill>
                <a:srgbClr val="e3e3ff"/>
              </a:solidFill>
              <a:latin typeface="Arial"/>
            </a:endParaRPr>
          </a:p>
        </p:txBody>
      </p:sp>
      <p:sp>
        <p:nvSpPr>
          <p:cNvPr id="3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xt three rows fall under the general category Most Extreme Differences. The differences referred to are the largest positive and negative points of divergence between the empirical and theoretical CDF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difference value, labeled Absolute, is the absolute value of the larger of the two difference values printed directly below it. This value will be required to calculate the test statistic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ne-Sample Kolmogorov-Smirnov Test Table</a:t>
            </a:r>
            <a:endParaRPr b="0" lang="en-US" sz="4000" spc="-1" strike="noStrike">
              <a:solidFill>
                <a:srgbClr val="e3e3ff"/>
              </a:solidFill>
              <a:latin typeface="Arial"/>
            </a:endParaRPr>
          </a:p>
        </p:txBody>
      </p:sp>
      <p:sp>
        <p:nvSpPr>
          <p:cNvPr id="3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sitive difference is the point at which the empirical CDF exceeds the theoretical CDF by the greatest amoun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the opposite end of the continuum, the Negative difference is the point at which the theoretical CDF exceeds the empirical CDF by the greatest amoun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ne-Sample Kolmogorov-Smirnov Test Table</a:t>
            </a:r>
            <a:endParaRPr b="0" lang="en-US" sz="4000" spc="-1" strike="noStrike">
              <a:solidFill>
                <a:srgbClr val="e3e3ff"/>
              </a:solidFill>
              <a:latin typeface="Arial"/>
            </a:endParaRPr>
          </a:p>
        </p:txBody>
      </p:sp>
      <p:sp>
        <p:nvSpPr>
          <p:cNvPr id="3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Z test statistic is the product of the square root of the sample size and the largest absolute difference between the empirical and theoretical CDF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like much statistical testing, a significant result here is bad news. The probability of the Z statistic is below 0.05, meaning that the Poisson distribution with a parameter of 1.72 is not a good fit for the number of accidents within the past five years in this sample of driv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ne- Way ANOVA</a:t>
            </a:r>
            <a:br>
              <a:rPr sz="4000"/>
            </a:br>
            <a:r>
              <a:rPr b="0" lang="en-US" sz="4000" spc="-1" strike="noStrike">
                <a:solidFill>
                  <a:srgbClr val="e3e3ff"/>
                </a:solidFill>
                <a:latin typeface="Arial"/>
              </a:rPr>
              <a:t>Comparing Multiple Independent Means</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the sample data file “GSS93 subset”. Split the respondents into three groups according to which category of the variable life they fall into exciting, routine or dull. Our Null Hypothesis is that there is no difference between the groups in terms of edu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oodness of Fit within Groups </a:t>
            </a:r>
            <a:endParaRPr b="0" lang="en-US" sz="4400" spc="-1" strike="noStrike">
              <a:solidFill>
                <a:srgbClr val="e3e3ff"/>
              </a:solidFill>
              <a:latin typeface="Arial"/>
            </a:endParaRPr>
          </a:p>
        </p:txBody>
      </p:sp>
      <p:sp>
        <p:nvSpPr>
          <p:cNvPr id="3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ly, a significant Kolmogorov-Smirnov test means one of two things--either the theoretical distribution is not appropriate, or an incorrect parameter was used to generate that distribution. Looking at the previous results, it is hard for the analyst to believe that the Poisson distribution is not the appropriate one to use for modeling automobile accidents. Poisson is often used to model rare events and, fortunately, automobile accidents are relatively rare.</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nalyst wonders if gender may be confounding the test. The total sample average assumes that males and females have equal numbers of accidents, but this is probably not true. She will split the sample by gender, using each gender's average as the Poisson parameter in separate tes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litting the File </a:t>
            </a:r>
            <a:endParaRPr b="0" lang="en-US" sz="4400" spc="-1" strike="noStrike">
              <a:solidFill>
                <a:srgbClr val="e3e3ff"/>
              </a:solidFill>
              <a:latin typeface="Arial"/>
            </a:endParaRPr>
          </a:p>
        </p:txBody>
      </p:sp>
      <p:sp>
        <p:nvSpPr>
          <p:cNvPr id="3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split the file, from the Data Editor menus choos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ata</a:t>
            </a:r>
            <a:br>
              <a:rPr sz="3200"/>
            </a:br>
            <a:r>
              <a:rPr b="0" lang="en-US" sz="3200" spc="-1" strike="noStrike">
                <a:solidFill>
                  <a:srgbClr val="ffffff"/>
                </a:solidFill>
                <a:latin typeface="Arial"/>
              </a:rPr>
              <a:t>   Split fil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ect Compare group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lect Sex of insured as the test variabl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lick OK.</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unning the Analysis </a:t>
            </a:r>
            <a:endParaRPr b="0" lang="en-US" sz="4400" spc="-1" strike="noStrike">
              <a:solidFill>
                <a:srgbClr val="e3e3ff"/>
              </a:solidFill>
              <a:latin typeface="Arial"/>
            </a:endParaRPr>
          </a:p>
        </p:txBody>
      </p:sp>
      <p:sp>
        <p:nvSpPr>
          <p:cNvPr id="3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rerun the one-sample K-S test, recall the One-Sample Kolmogorov-Smirnov Text dialog box.</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the dialog box need not be reset, the analyst would like to obtain descriptive statistics on the test variable within each group.</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lick Options.</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Descriptiv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lick Continu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lick OK in the One-Sample Kolmogorov-Smirnov Test dialog bo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escriptive Statistics by Group </a:t>
            </a:r>
            <a:endParaRPr b="0" lang="en-US" sz="4400" spc="-1" strike="noStrike">
              <a:solidFill>
                <a:srgbClr val="e3e3ff"/>
              </a:solidFill>
              <a:latin typeface="Arial"/>
            </a:endParaRPr>
          </a:p>
        </p:txBody>
      </p:sp>
      <p:sp>
        <p:nvSpPr>
          <p:cNvPr id="3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tistics table provides evidence that a single Poisson parameter for both genders may not be correct. Males in this sample averaged about two accidents over the past five years, while females tended to have fewer accid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est Tables by Group </a:t>
            </a:r>
            <a:endParaRPr b="0" lang="en-US" sz="4400" spc="-1" strike="noStrike">
              <a:solidFill>
                <a:srgbClr val="e3e3ff"/>
              </a:solidFill>
              <a:latin typeface="Arial"/>
            </a:endParaRPr>
          </a:p>
        </p:txBody>
      </p:sp>
      <p:sp>
        <p:nvSpPr>
          <p:cNvPr id="3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ssessing goodness of fit, remember that a statistically significant Z statistic means that the chosen distribution does not fit the data well. Unlike the previous test, however, we see a much better fit when splitting the file by gend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est Tables by Group</a:t>
            </a:r>
            <a:endParaRPr b="0" lang="en-US" sz="4400" spc="-1" strike="noStrike">
              <a:solidFill>
                <a:srgbClr val="e3e3ff"/>
              </a:solidFill>
              <a:latin typeface="Arial"/>
            </a:endParaRPr>
          </a:p>
        </p:txBody>
      </p:sp>
      <p:sp>
        <p:nvSpPr>
          <p:cNvPr id="3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ing the Poisson parameter from 1.72 to 1.98 clearly provides a better fit to the accident data for men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ilarly, decreasing the Poisson parameter from 1.72 to 1.47 provides a better fit to the accident data for women.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UMMARY</a:t>
            </a:r>
            <a:endParaRPr b="0" lang="en-US" sz="4400" spc="-1" strike="noStrike">
              <a:solidFill>
                <a:srgbClr val="e3e3ff"/>
              </a:solidFill>
              <a:latin typeface="Arial"/>
            </a:endParaRPr>
          </a:p>
        </p:txBody>
      </p:sp>
      <p:sp>
        <p:nvSpPr>
          <p:cNvPr id="3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the One-Sample Kolmogorov-Smirnov Test procedure, you found that, overall, the number of automobile accidents per driver do not follow a Poisson distribution. However, once you split the file on gender, the distributions of accidents for males and females can individually be considered Poisson.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results demonstrate that the one-sample Kolmogorov-Smirnov test requires not only that you choose the appropriate distribution but the appropriate parameter (s) for it as wel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lated Procedures</a:t>
            </a:r>
            <a:endParaRPr b="0" lang="en-US" sz="4400" spc="-1" strike="noStrike">
              <a:solidFill>
                <a:srgbClr val="e3e3ff"/>
              </a:solidFill>
              <a:latin typeface="Arial"/>
            </a:endParaRPr>
          </a:p>
        </p:txBody>
      </p:sp>
      <p:sp>
        <p:nvSpPr>
          <p:cNvPr id="3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use the one-sample Kolmogorov-Smirnov procedure to test the null hypothesis that a sample comes from a particular distribution. Four theoretical distribution functions are available--normal, uniform, Poisson, and exponential. Optionally, you can request descriptive statistics and/or quartiles of the test variable.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want to compare the distributions of two variables, use the two-sample Kolmogorov-Smirnov test in the Two-Independent-Samples Tests procedure.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r variable is scale, more statistics and tests of normality are available through the Explore procedur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Nonparametric Tests for Two Independent Samples </a:t>
            </a:r>
            <a:endParaRPr b="0" lang="en-US" sz="4000" spc="-1" strike="noStrike">
              <a:solidFill>
                <a:srgbClr val="e3e3ff"/>
              </a:solidFill>
              <a:latin typeface="Arial"/>
            </a:endParaRPr>
          </a:p>
        </p:txBody>
      </p:sp>
      <p:sp>
        <p:nvSpPr>
          <p:cNvPr id="3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parametric tests for two independent samples are useful for determining whether or not the values of a particular variable differ between two groups. This is especially true when the assumptions of the t test are not m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ethods for Two Independent Samples </a:t>
            </a:r>
            <a:endParaRPr b="0" lang="en-US" sz="4000" spc="-1" strike="noStrike">
              <a:solidFill>
                <a:srgbClr val="e3e3ff"/>
              </a:solidFill>
              <a:latin typeface="Arial"/>
            </a:endParaRPr>
          </a:p>
        </p:txBody>
      </p:sp>
      <p:sp>
        <p:nvSpPr>
          <p:cNvPr id="3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you want to test for differences between two groups, the independent-samples t test comes naturally to mind. However, despite its simplicity, power, and robustness, the independent-samples t test is invalid when certain critical assumptions are not met. These assumptions center around the parameters of the test variable (in this case, the mean and variance) and the distribution of the variable itself.</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important, the t test assumes that the sample mean is a valid measure of center. While the mean is valid when the distance between all scale values is equal, it's a problem when your test variable is ordinal because in ordinal scales the distances between the values are arbitrary. Furthermore, because the variance is calculated using squared distances from the mean, it too is invalid if those distances are arbitrary. Finally, even if the mean is a valid measure of center, the distribution of the test variable may be so non-normal that it makes you suspicious of any test that assumes normality.</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ny of these circumstances is true for your analysis, you should consider using the nonparametric procedures designed to test for the significance of the difference between two groups. They are called nonparametric because they make no assumptions about the parameters of a distribution, nor do they assume that any particular distribution is being used. Two popular nonparametric tests of location (or central tendency)--the Mann-Whitney and Wilcoxon tests--and a test of location and shape--the two-sample Kolmogorov-Smirnov test--are illustra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ORRELATION</a:t>
            </a:r>
            <a:br>
              <a:rPr sz="4000"/>
            </a:br>
            <a:r>
              <a:rPr b="0" lang="en-US" sz="4000" spc="-1" strike="noStrike">
                <a:solidFill>
                  <a:srgbClr val="e3e3ff"/>
                </a:solidFill>
                <a:latin typeface="Arial"/>
              </a:rPr>
              <a:t>	</a:t>
            </a:r>
            <a:r>
              <a:rPr b="0" lang="en-US" sz="4000" spc="-1" strike="noStrike">
                <a:solidFill>
                  <a:srgbClr val="e3e3ff"/>
                </a:solidFill>
                <a:latin typeface="Arial"/>
              </a:rPr>
              <a:t>Bivariate Correlation</a:t>
            </a:r>
            <a:endParaRPr b="0" lang="en-US" sz="40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erform the Bivariate Correlation Analysis, we can use the data in the “</a:t>
            </a:r>
            <a:r>
              <a:rPr b="0" lang="en-US" sz="2800" spc="-1" strike="noStrike">
                <a:solidFill>
                  <a:srgbClr val="ffffff"/>
                </a:solidFill>
                <a:latin typeface="Arial"/>
              </a:rPr>
              <a:t>GSS93 subset</a:t>
            </a:r>
            <a:r>
              <a:rPr b="0" lang="en-US" sz="2000" spc="-1" strike="noStrike">
                <a:solidFill>
                  <a:srgbClr val="ffffff"/>
                </a:solidFill>
                <a:latin typeface="Arial"/>
              </a:rPr>
              <a:t> “ sample file. We choose the education of the respondent (educ), of his parents (maeduc and paeduc), along with the age (age) and the occupational prestige score (prestg80). The Null Hypothesis is that there is no significant relationship between these pairs of variabl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ethods for Two Independent Samples </a:t>
            </a:r>
            <a:endParaRPr b="0" lang="en-US" sz="4000" spc="-1" strike="noStrike">
              <a:solidFill>
                <a:srgbClr val="e3e3ff"/>
              </a:solidFill>
              <a:latin typeface="Arial"/>
            </a:endParaRPr>
          </a:p>
        </p:txBody>
      </p:sp>
      <p:sp>
        <p:nvSpPr>
          <p:cNvPr id="3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n-Whitney and Wilcoxon tests. You can use the Mann-Whitney and Wilcoxon statistics to test the null hypothesis that two independent samples come from the same population. Their advantage over the independent-samples t test is that Mann-Whitney and Wilcoxon do not assume normality and can be used to test ordinal variables.</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sample Kolmogorov-Smirnov test. Alternatively, you can use the two-sample Kolmogorov-Smirnov test to test the null hypothesis that two samples have the same distribution. The test variable is assumed to be continuous; however, its cumulative distribution function (CDF) can assume any shape at all.</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ddition to their standard output, the Mann-Whitney and Wilcoxon and the two-sample Kolmogorov-Smirnov tests display descriptive statistics and/or quartiles of the test variab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Using the Mann-Whitney Test to Test Ordinal Outcomes </a:t>
            </a:r>
            <a:endParaRPr b="0" lang="en-US" sz="4000" spc="-1" strike="noStrike">
              <a:solidFill>
                <a:srgbClr val="e3e3ff"/>
              </a:solidFill>
              <a:latin typeface="Arial"/>
            </a:endParaRPr>
          </a:p>
        </p:txBody>
      </p:sp>
      <p:sp>
        <p:nvSpPr>
          <p:cNvPr id="3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cians randomly assigned female stroke patients to receive only physical therapy or physical therapy combined with emotional therapy. Three months after the treatments, the Mann-Whitney test is used to compare each group's ability to perform common activities of daily lif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are collected in the file adl.sav . Use the Mann-Whitney test to determine whether the two groups' abilities diffe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unning the Analysis </a:t>
            </a:r>
            <a:endParaRPr b="0" lang="en-US" sz="4400" spc="-1" strike="noStrike">
              <a:solidFill>
                <a:srgbClr val="e3e3ff"/>
              </a:solidFill>
              <a:latin typeface="Arial"/>
            </a:endParaRPr>
          </a:p>
        </p:txBody>
      </p:sp>
      <p:sp>
        <p:nvSpPr>
          <p:cNvPr id="3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begin the analysis, from the menus choose:</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alyze</a:t>
            </a:r>
            <a:br>
              <a:rPr sz="2800"/>
            </a:br>
            <a:r>
              <a:rPr b="0" lang="en-US" sz="2800" spc="-1" strike="noStrike">
                <a:solidFill>
                  <a:srgbClr val="ffffff"/>
                </a:solidFill>
                <a:latin typeface="Arial"/>
              </a:rPr>
              <a:t>   Nonparametric Tests</a:t>
            </a:r>
            <a:br>
              <a:rPr sz="2800"/>
            </a:br>
            <a:r>
              <a:rPr b="0" lang="en-US" sz="2800" spc="-1" strike="noStrike">
                <a:solidFill>
                  <a:srgbClr val="ffffff"/>
                </a:solidFill>
                <a:latin typeface="Arial"/>
              </a:rPr>
              <a:t>    2 Independent Sampl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Travel ADL, Cooking ADL, and Housekeeping ADL as the test variables.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Treatment group as the grouping variable.</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lick Define Group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unning the Analysis</a:t>
            </a:r>
            <a:endParaRPr b="0" lang="en-US" sz="4400" spc="-1" strike="noStrike">
              <a:solidFill>
                <a:srgbClr val="e3e3ff"/>
              </a:solidFill>
              <a:latin typeface="Arial"/>
            </a:endParaRPr>
          </a:p>
        </p:txBody>
      </p:sp>
      <p:sp>
        <p:nvSpPr>
          <p:cNvPr id="3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0 as the group 1 value and 1 as the group 2 valu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lick Continu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lick OK in the Two-Independent-Samples Tests dialog box.</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ank Table </a:t>
            </a:r>
            <a:endParaRPr b="0" lang="en-US" sz="4400" spc="-1" strike="noStrike">
              <a:solidFill>
                <a:srgbClr val="e3e3ff"/>
              </a:solidFill>
              <a:latin typeface="Arial"/>
            </a:endParaRPr>
          </a:p>
        </p:txBody>
      </p:sp>
      <p:sp>
        <p:nvSpPr>
          <p:cNvPr id="3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the test variables are assumed to be ordinal, the Mann-Whitney and Wilcoxon tests are based on ranks of the original values and not on the values themselv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ank table is divided into three panels, one panel for each test variabl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ank Table</a:t>
            </a:r>
            <a:endParaRPr b="0" lang="en-US" sz="4400" spc="-1" strike="noStrike">
              <a:solidFill>
                <a:srgbClr val="e3e3ff"/>
              </a:solidFill>
              <a:latin typeface="Arial"/>
            </a:endParaRPr>
          </a:p>
        </p:txBody>
      </p:sp>
      <p:sp>
        <p:nvSpPr>
          <p:cNvPr id="3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test variable, Travel ADL, measures the ability to regularly get around the community. It ranges from 0 to 4, where 0 = Same as before illness and 4 = Bedridden. All 46 women in the control group and all 54 women in the treatment group provided valid data for this variable.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each case is ranked without regard to group membership. Cases tied on a particular value receive the average rank for that value. After ranking the cases, the ranks are summed within group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ank Table</a:t>
            </a:r>
            <a:endParaRPr b="0" lang="en-US" sz="4400" spc="-1" strike="noStrike">
              <a:solidFill>
                <a:srgbClr val="e3e3ff"/>
              </a:solidFill>
              <a:latin typeface="Arial"/>
            </a:endParaRPr>
          </a:p>
        </p:txBody>
      </p:sp>
      <p:sp>
        <p:nvSpPr>
          <p:cNvPr id="3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ranks adjust for differences in the number of patients in both groups. If the groups are only randomly different, the average ranks should be about equal. For Travel ADL, the average ranks are over 9 points apart.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st variables Cooking ADL and Housekeeping ADL contain missing data. For these variables, the value 4 = Never did any; thus, these scales do not apply to all patient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for those to whom they do apply, there are differences of about 12 to 13 points between the average ranks of the treatment and control group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ann-Whitney and Wilcoxon Tests Table </a:t>
            </a:r>
            <a:endParaRPr b="0" lang="en-US" sz="4000" spc="-1" strike="noStrike">
              <a:solidFill>
                <a:srgbClr val="e3e3ff"/>
              </a:solidFill>
              <a:latin typeface="Arial"/>
            </a:endParaRPr>
          </a:p>
        </p:txBody>
      </p:sp>
      <p:sp>
        <p:nvSpPr>
          <p:cNvPr id="3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 statistic is simple (but tedious) to calculate. For each case in group 1, the number of cases in group 2 with higher ranks is counted. Tied ranks count as 1/2. This process is repeated for group 2. The Mann-Whitney U statistic displayed in the table is the smaller of these two values</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ilcoxon W statistic is simply the smaller of the two rank sums displayed for each group in the rank table. The values displayed here are the rank sums for the treatment group.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ann-Whitney and Wilcoxon Tests Table</a:t>
            </a:r>
            <a:endParaRPr b="0" lang="en-US" sz="4000" spc="-1" strike="noStrike">
              <a:solidFill>
                <a:srgbClr val="e3e3ff"/>
              </a:solidFill>
              <a:latin typeface="Arial"/>
            </a:endParaRPr>
          </a:p>
        </p:txBody>
      </p:sp>
      <p:sp>
        <p:nvSpPr>
          <p:cNvPr id="3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ice feature of the Mann-Whitney and Wilcoxon tests is that the Z statistic and normal distribution provide an excellent approximation as the sample size grows beyond 10 in either group. The negative Z statistics indicate that the rank sums are lower than their expected values. Each two-tailed significance value estimates the probability of obtaining a Z statistic as or more extreme (in absolute value) as the one displayed, if there truly is no effect of the treatmen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ORRELATION</a:t>
            </a:r>
            <a:br>
              <a:rPr sz="4000"/>
            </a:br>
            <a:r>
              <a:rPr b="0" lang="en-US" sz="4000" spc="-1" strike="noStrike">
                <a:solidFill>
                  <a:srgbClr val="e3e3ff"/>
                </a:solidFill>
                <a:latin typeface="Arial"/>
              </a:rPr>
              <a:t>Partial Correlation</a:t>
            </a:r>
            <a:endParaRPr b="0" lang="en-US" sz="4000" spc="-1" strike="noStrike">
              <a:solidFill>
                <a:srgbClr val="e3e3ff"/>
              </a:solidFill>
              <a:latin typeface="Arial"/>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erform Partial Correlation Analysis, we can use the “</a:t>
            </a:r>
            <a:r>
              <a:rPr b="0" lang="en-US" sz="2800" spc="-1" strike="noStrike">
                <a:solidFill>
                  <a:srgbClr val="ffffff"/>
                </a:solidFill>
                <a:latin typeface="Arial"/>
              </a:rPr>
              <a:t>employeedata.sav</a:t>
            </a:r>
            <a:r>
              <a:rPr b="0" lang="en-US" sz="2000" spc="-1" strike="noStrike">
                <a:solidFill>
                  <a:srgbClr val="ffffff"/>
                </a:solidFill>
                <a:latin typeface="Arial"/>
              </a:rPr>
              <a:t>” file. From the file we can estimate the correlation between current salary (salary) and beginning salary (salbegin), while choosing the control variable as months since hire (jobtime) and previous experience (prevexp). The order of the partial correlation coefficient is determined based on the number of control variabl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ann-Whitney and Wilcoxon Tests Table</a:t>
            </a:r>
            <a:endParaRPr b="0" lang="en-US" sz="4000" spc="-1" strike="noStrike">
              <a:solidFill>
                <a:srgbClr val="e3e3ff"/>
              </a:solidFill>
              <a:latin typeface="Arial"/>
            </a:endParaRPr>
          </a:p>
        </p:txBody>
      </p:sp>
      <p:sp>
        <p:nvSpPr>
          <p:cNvPr id="3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gnificantly lower rank sums of the treatment group indicate to the physicians that the additional emotional therapy had some beneficial effect on such activities of daily life as cooking and clea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Using the Two-Sample Kolmogorov-Smirnov Test to Compare Distributions</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3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rain processor has two corn crops with aflatoxin levels below 20 parts per billion and are safe for human consumption. However, because aflatoxin varies widely across yields, he wants to compare the levels of aflatoxin in each of the yield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example uses the file aflatoxin20.sav . Use the two-sample Kolmogorov-Smirnov test to determine whether the distribution of aflatoxin differs significantly between the two safe yield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paring the Data </a:t>
            </a:r>
            <a:endParaRPr b="0" lang="en-US" sz="4400" spc="-1" strike="noStrike">
              <a:solidFill>
                <a:srgbClr val="e3e3ff"/>
              </a:solidFill>
              <a:latin typeface="Arial"/>
            </a:endParaRPr>
          </a:p>
        </p:txBody>
      </p:sp>
      <p:sp>
        <p:nvSpPr>
          <p:cNvPr id="3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enter Aflatoxin PPB, from the Data Editor menus choos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ransform</a:t>
            </a:r>
            <a:br>
              <a:rPr sz="2800"/>
            </a:br>
            <a:r>
              <a:rPr b="0" lang="en-US" sz="2800" spc="-1" strike="noStrike">
                <a:solidFill>
                  <a:srgbClr val="ffffff"/>
                </a:solidFill>
                <a:latin typeface="Arial"/>
              </a:rPr>
              <a:t>   Compute...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ctrtoxin as the target variabl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lick Type&amp;Label</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Centered aflatoxin level as the label.</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lick Continu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If in the Compute Variable dialog box.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paring the Data</a:t>
            </a:r>
            <a:endParaRPr b="0" lang="en-US" sz="4400" spc="-1" strike="noStrike">
              <a:solidFill>
                <a:srgbClr val="e3e3ff"/>
              </a:solidFill>
              <a:latin typeface="Arial"/>
            </a:endParaRPr>
          </a:p>
        </p:txBody>
      </p:sp>
      <p:sp>
        <p:nvSpPr>
          <p:cNvPr id="3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Include if case satisfies conditio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ype yield=4 in the expression are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lick Continue.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an aflatoxin level for yield 4 is 14.6875, so type toxin - 14.6875 in the expression are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lick OK.</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takes care of yield 4, but yield 8 remains.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call the Compute Variable dialog box.</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lick If in the Compute Variable dialog box.</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paring the Data</a:t>
            </a:r>
            <a:endParaRPr b="0" lang="en-US" sz="4400" spc="-1" strike="noStrike">
              <a:solidFill>
                <a:srgbClr val="e3e3ff"/>
              </a:solidFill>
              <a:latin typeface="Arial"/>
            </a:endParaRPr>
          </a:p>
        </p:txBody>
      </p:sp>
      <p:sp>
        <p:nvSpPr>
          <p:cNvPr id="3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yield=8 in the expression are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lick Continu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toxin - 8.4375 in the expression are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lick OK.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OK to finish centering the variabl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unning the Analysis </a:t>
            </a:r>
            <a:endParaRPr b="0" lang="en-US" sz="4400" spc="-1" strike="noStrike">
              <a:solidFill>
                <a:srgbClr val="e3e3ff"/>
              </a:solidFill>
              <a:latin typeface="Arial"/>
            </a:endParaRPr>
          </a:p>
        </p:txBody>
      </p:sp>
      <p:sp>
        <p:nvSpPr>
          <p:cNvPr id="392"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begin the analysis, from the menus choose:</a:t>
            </a:r>
            <a:endParaRPr b="0" lang="en-US" sz="3200" spc="-1" strike="noStrike">
              <a:solidFill>
                <a:srgbClr val="ffffff"/>
              </a:solidFill>
              <a:latin typeface="Arial"/>
            </a:endParaRPr>
          </a:p>
          <a:p>
            <a:pPr marL="305280" indent="-3052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alyze</a:t>
            </a:r>
            <a:br>
              <a:rPr sz="3200"/>
            </a:br>
            <a:r>
              <a:rPr b="0" lang="en-US" sz="3200" spc="-1" strike="noStrike">
                <a:solidFill>
                  <a:srgbClr val="ffffff"/>
                </a:solidFill>
                <a:latin typeface="Arial"/>
              </a:rPr>
              <a:t>   Nonparametric Tests</a:t>
            </a:r>
            <a:br>
              <a:rPr sz="3200"/>
            </a:br>
            <a:r>
              <a:rPr b="0" lang="en-US" sz="3200" spc="-1" strike="noStrike">
                <a:solidFill>
                  <a:srgbClr val="ffffff"/>
                </a:solidFill>
                <a:latin typeface="Arial"/>
              </a:rPr>
              <a:t>    2 Independent Samples</a:t>
            </a:r>
            <a:endParaRPr b="0" lang="en-US" sz="3200" spc="-1" strike="noStrike">
              <a:solidFill>
                <a:srgbClr val="ffffff"/>
              </a:solidFill>
              <a:latin typeface="Arial"/>
            </a:endParaRPr>
          </a:p>
          <a:p>
            <a:pPr marL="305280" indent="-3052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ect Aflatoxin PPB and Centered aflatoxin level as the test variables.</a:t>
            </a:r>
            <a:endParaRPr b="0" lang="en-US" sz="3200" spc="-1" strike="noStrike">
              <a:solidFill>
                <a:srgbClr val="ffffff"/>
              </a:solidFill>
              <a:latin typeface="Arial"/>
            </a:endParaRPr>
          </a:p>
          <a:p>
            <a:pPr marL="305280" indent="-3052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select Mann-Whitney U, and select Kolmogorov-Smirnov Z.</a:t>
            </a:r>
            <a:endParaRPr b="0" lang="en-US" sz="3200" spc="-1" strike="noStrike">
              <a:solidFill>
                <a:srgbClr val="ffffff"/>
              </a:solidFill>
              <a:latin typeface="Arial"/>
            </a:endParaRPr>
          </a:p>
          <a:p>
            <a:pPr marL="305280" indent="-3052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lect Corn yield as the grouping variable.</a:t>
            </a:r>
            <a:endParaRPr b="0" lang="en-US" sz="3200" spc="-1" strike="noStrike">
              <a:solidFill>
                <a:srgbClr val="ffffff"/>
              </a:solidFill>
              <a:latin typeface="Arial"/>
            </a:endParaRPr>
          </a:p>
          <a:p>
            <a:pPr marL="305280" indent="-3052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lick Define Groups.</a:t>
            </a:r>
            <a:endParaRPr b="0" lang="en-US" sz="3200" spc="-1" strike="noStrike">
              <a:solidFill>
                <a:srgbClr val="ffffff"/>
              </a:solidFill>
              <a:latin typeface="Arial"/>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Rectangle 4"/>
          <p:cNvSpPr/>
          <p:nvPr/>
        </p:nvSpPr>
        <p:spPr>
          <a:xfrm>
            <a:off x="2339640" y="3107880"/>
            <a:ext cx="44647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 Corn yield as the grouping variab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lick Define Group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unning the Analysis </a:t>
            </a:r>
            <a:endParaRPr b="0" lang="en-US" sz="4400" spc="-1" strike="noStrike">
              <a:solidFill>
                <a:srgbClr val="e3e3ff"/>
              </a:solidFill>
              <a:latin typeface="Arial"/>
            </a:endParaRPr>
          </a:p>
        </p:txBody>
      </p:sp>
      <p:sp>
        <p:nvSpPr>
          <p:cNvPr id="3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4 as the group 1 value and 8 as the group 2 valu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lick Continu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lick OK in the Two-Independent-Samples Tests dialog bo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wo-Sample K-S Frequency Table </a:t>
            </a:r>
            <a:endParaRPr b="0" lang="en-US" sz="4000" spc="-1" strike="noStrike">
              <a:solidFill>
                <a:srgbClr val="e3e3ff"/>
              </a:solidFill>
              <a:latin typeface="Arial"/>
            </a:endParaRPr>
          </a:p>
        </p:txBody>
      </p:sp>
      <p:sp>
        <p:nvSpPr>
          <p:cNvPr id="39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requency table confirms that there are 16 cases for each corn yield. In this example, the sample sizes of the two groups are equal, although this is not required.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wo-Sample K-S Test Table </a:t>
            </a:r>
            <a:endParaRPr b="0" lang="en-US" sz="4400" spc="-1" strike="noStrike">
              <a:solidFill>
                <a:srgbClr val="e3e3ff"/>
              </a:solidFill>
              <a:latin typeface="Arial"/>
            </a:endParaRPr>
          </a:p>
        </p:txBody>
      </p:sp>
      <p:sp>
        <p:nvSpPr>
          <p:cNvPr id="3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three rows of the test table fall under the general category Most Extreme Differences. The differences referred to are the largest positive and negative points of divergence between the CDFs of the two sample distributions.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difference value, labeled Absolute, is the absolute value of the larger of the two difference values printed directly below it. This value will be required to calculate the test statistic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wo-Sample K-S Test Table</a:t>
            </a:r>
            <a:endParaRPr b="0" lang="en-US" sz="4400" spc="-1" strike="noStrike">
              <a:solidFill>
                <a:srgbClr val="e3e3ff"/>
              </a:solidFill>
              <a:latin typeface="Arial"/>
            </a:endParaRPr>
          </a:p>
        </p:txBody>
      </p:sp>
      <p:sp>
        <p:nvSpPr>
          <p:cNvPr id="40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sitive difference is the point at which the CDF for yield 8 exceeds the CDF for yield 4 by the greatest amount. It is 0 in this case, meaning that the distribution of aflatoxin in yield 8 never exceeds that of yield 4.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opposite end of the continuum, the Negative difference is the point at which the CDF for yield 4 exceeds the CDF for yield 8 by the greatest amount.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Z test statistic is a function of the combined sample size and the largest absolute difference between the two cumulative distribution functions.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GRESSION</a:t>
            </a:r>
            <a:endParaRPr b="0" lang="en-US" sz="4400" spc="-1" strike="noStrike">
              <a:solidFill>
                <a:srgbClr val="e3e3ff"/>
              </a:solidFill>
              <a:latin typeface="Arial"/>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ear Regression estimates the coefficients of the linear equation. To analyze the relationship between variables we select the file “</a:t>
            </a:r>
            <a:r>
              <a:rPr b="0" lang="en-US" sz="2800" spc="-1" strike="noStrike">
                <a:solidFill>
                  <a:srgbClr val="ffffff"/>
                </a:solidFill>
                <a:latin typeface="Arial"/>
              </a:rPr>
              <a:t>employeedata.sav</a:t>
            </a:r>
            <a:r>
              <a:rPr b="0" lang="en-US" sz="2000" spc="-1" strike="noStrike">
                <a:solidFill>
                  <a:srgbClr val="ffffff"/>
                </a:solidFill>
                <a:latin typeface="Arial"/>
              </a:rPr>
              <a:t>”. We will analyze the relationship between the </a:t>
            </a:r>
            <a:r>
              <a:rPr b="1" lang="en-US" sz="2000" spc="-1" strike="noStrike">
                <a:solidFill>
                  <a:srgbClr val="ffffff"/>
                </a:solidFill>
                <a:latin typeface="Arial"/>
              </a:rPr>
              <a:t>current salary as the dependent variable and education level, previous experience , beginning salary and months since hire as the independent variabl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wo-Sample K-S Test Table</a:t>
            </a:r>
            <a:endParaRPr b="0" lang="en-US" sz="4400" spc="-1" strike="noStrike">
              <a:solidFill>
                <a:srgbClr val="e3e3ff"/>
              </a:solidFill>
              <a:latin typeface="Arial"/>
            </a:endParaRPr>
          </a:p>
        </p:txBody>
      </p:sp>
      <p:sp>
        <p:nvSpPr>
          <p:cNvPr id="4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bability of the Kolmogorov-Smirnov Z statistic falls well below 0.05. By that standard, the distributions of the two yields are significantly different from each other.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he other hand, the Z statistic and associated significance value for Centered toxin level confirm that the shape of the two distributions is not significantly differen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wo-Sample K-S Test Table </a:t>
            </a:r>
            <a:endParaRPr b="0" lang="en-US" sz="4400" spc="-1" strike="noStrike">
              <a:solidFill>
                <a:srgbClr val="e3e3ff"/>
              </a:solidFill>
              <a:latin typeface="Arial"/>
            </a:endParaRPr>
          </a:p>
        </p:txBody>
      </p:sp>
      <p:sp>
        <p:nvSpPr>
          <p:cNvPr id="4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is table, we can conclude that the significance of the difference between the two distributions is due only to their different locations on the scale, not to any differences in shap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lated Procedures </a:t>
            </a:r>
            <a:endParaRPr b="0" lang="en-US" sz="4400" spc="-1" strike="noStrike">
              <a:solidFill>
                <a:srgbClr val="e3e3ff"/>
              </a:solidFill>
              <a:latin typeface="Arial"/>
            </a:endParaRPr>
          </a:p>
        </p:txBody>
      </p:sp>
      <p:sp>
        <p:nvSpPr>
          <p:cNvPr id="40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should use the Mann-Whitney test when you want to test for differences between two groups but you are testing an ordinal variable or you have a scale variable that in some other ways does not conform to the assumptions of the independent-samples t test. The Mann-Whitney and Wilcoxon tests assume that the variable you are testing is at least ordinal and that its distribution is similar in both groups. You can use the two-sample Kolmogorov-Smirnov test to validate the assumption of similar distributions.</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wo-sample Kolmogorov-Smirnov test tests the null hypothesis that two samples have the same distribution. It's a very flexible test because no specific shape is assumed for the underlying distribution. However, because the test makes no assumptions, it is sensitive to differences in both location and scale. You may want to center the test variable if you are not interested in location differences; additionally, you may want to standardize the test variable to remove both location and scale.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alternatively use the Crosstabs procedure to test for differences between two or more groups of an ordinal or nominal variable.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r test variable passes the stricter conditions of the two-sample t test, you can use the Independent-Samples T Test procedure.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r grouping variable has more than two groups, try the Tests for Several Independent Samples Tests procedure.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samples defined by your grouping variable are not independent, try the Two-Related-Samples Tests procedur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Nonparametric Tests for Multiple Independent Samples </a:t>
            </a:r>
            <a:endParaRPr b="0" lang="en-US" sz="4000" spc="-1" strike="noStrike">
              <a:solidFill>
                <a:srgbClr val="e3e3ff"/>
              </a:solidFill>
              <a:latin typeface="Arial"/>
            </a:endParaRPr>
          </a:p>
        </p:txBody>
      </p:sp>
      <p:sp>
        <p:nvSpPr>
          <p:cNvPr id="40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parametric tests for multiple independent samples are useful for determining whether or not the values of a particular variable differ between two or more groups. This is especially true when the assumptions of ANOVA are not m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ethods for Multiple Independent Samples </a:t>
            </a:r>
            <a:endParaRPr b="0" lang="en-US" sz="4000" spc="-1" strike="noStrike">
              <a:solidFill>
                <a:srgbClr val="e3e3ff"/>
              </a:solidFill>
              <a:latin typeface="Arial"/>
            </a:endParaRPr>
          </a:p>
        </p:txBody>
      </p:sp>
      <p:sp>
        <p:nvSpPr>
          <p:cNvPr id="411"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hough one-way analysis of variance (ANOVA) is the method of choice when testing for differences between multiple groups, it assumes that the mean is a valid estimate of center and that the distribution of the test variable is reasonably normal and similar in all groups. However, when your test variable is ordinal, the mean is not a valid estimate because the distances between the values are arbitrary. Even if the mean is valid, the distribution of the test variable may be so non-normal that it makes you suspicious of any test that assumes normality.</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 assumptions behind the standard ANOVA are invalid or suspect, you should consider using the nonparametric procedures designed to test for the significance of the difference between multiple groups. They are called nonparametric because they make no assumptions about the parameters (such as the mean and variance) of a distribution, nor do they assume that any particular distribution is being used. In this chapter, we discuss two nonparametric tests for multiple independent samples, the Kruskal-Wallis and median tes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ethods for Multiple Independent Samples </a:t>
            </a:r>
            <a:endParaRPr b="0" lang="en-US" sz="4000" spc="-1" strike="noStrike">
              <a:solidFill>
                <a:srgbClr val="e3e3ff"/>
              </a:solidFill>
              <a:latin typeface="Arial"/>
            </a:endParaRPr>
          </a:p>
        </p:txBody>
      </p:sp>
      <p:sp>
        <p:nvSpPr>
          <p:cNvPr id="4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edian method tests the null hypothesis that two or more independent samples have the same median. It assumes nothing about the distribution of the test variable, making it a good choice when you suspect that the distribution varies by group.</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ruskal-Wallis test is a one-way analysis of variance by ranks. It tests the null hypothesis that multiple independent samples come from the same population. Unlike standard ANOVA, it does not assume normality, and it can be used to test ordinal variabl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ddition to their standard output, both the Kruskal-Wallis and median tests will display descriptive statistics and/or quartiles of the test vari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Using the Median Test to Detect Group Differences </a:t>
            </a:r>
            <a:endParaRPr b="0" lang="en-US" sz="4000" spc="-1" strike="noStrike">
              <a:solidFill>
                <a:srgbClr val="e3e3ff"/>
              </a:solidFill>
              <a:latin typeface="Arial"/>
            </a:endParaRPr>
          </a:p>
        </p:txBody>
      </p:sp>
      <p:sp>
        <p:nvSpPr>
          <p:cNvPr id="41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ales manager evaluates two new training courses. Sixty employees, divided into three groups, all receive standard training. In addition, group 2 receives technical training, and group 3 receives a hands-on tutorial. Each employee was tested at the end of the training course and their score recorded.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are collected in the file salesperformance.sav . Use the median test to assess the difference in performance between the three groups, if an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btaining the Analysis </a:t>
            </a:r>
            <a:endParaRPr b="0" lang="en-US" sz="4400" spc="-1" strike="noStrike">
              <a:solidFill>
                <a:srgbClr val="e3e3ff"/>
              </a:solidFill>
              <a:latin typeface="Arial"/>
            </a:endParaRPr>
          </a:p>
        </p:txBody>
      </p:sp>
      <p:sp>
        <p:nvSpPr>
          <p:cNvPr id="4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egin the analysis, from the menus choos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alyze</a:t>
            </a:r>
            <a:br>
              <a:rPr sz="2400"/>
            </a:br>
            <a:r>
              <a:rPr b="0" lang="en-US" sz="2400" spc="-1" strike="noStrike">
                <a:solidFill>
                  <a:srgbClr val="ffffff"/>
                </a:solidFill>
                <a:latin typeface="Arial"/>
              </a:rPr>
              <a:t>   Nonparametric Tests</a:t>
            </a:r>
            <a:br>
              <a:rPr sz="2400"/>
            </a:br>
            <a:r>
              <a:rPr b="0" lang="en-US" sz="2400" spc="-1" strike="noStrike">
                <a:solidFill>
                  <a:srgbClr val="ffffff"/>
                </a:solidFill>
                <a:latin typeface="Arial"/>
              </a:rPr>
              <a:t>    K Independent Samples...</a:t>
            </a:r>
            <a:br>
              <a:rPr sz="2400"/>
            </a:br>
            <a:r>
              <a:rPr b="0" lang="en-US" sz="2400" spc="-1" strike="noStrike">
                <a:solidFill>
                  <a:srgbClr val="ffffff"/>
                </a:solidFill>
                <a:latin typeface="Arial"/>
              </a:rPr>
              <a:t>Select Score on training exam as the test variabl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select Kruskal-Wallis H, and select Median as the test typ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Sales training group as the grouping variabl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lick Define Ran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btaining the Analysis </a:t>
            </a:r>
            <a:endParaRPr b="0" lang="en-US" sz="4400" spc="-1" strike="noStrike">
              <a:solidFill>
                <a:srgbClr val="e3e3ff"/>
              </a:solidFill>
              <a:latin typeface="Arial"/>
            </a:endParaRPr>
          </a:p>
        </p:txBody>
      </p:sp>
      <p:sp>
        <p:nvSpPr>
          <p:cNvPr id="41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1 as the minimum and 3 as the maximum valu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lick Continu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lick Options in the Tests for Several Independent Samples dialog box.</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Quartiles in the Statistics group.</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lick Continu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lick OK in the Tests for Several Independent Samples dialog bo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dian Test Statistics Table </a:t>
            </a:r>
            <a:endParaRPr b="0" lang="en-US" sz="4400" spc="-1" strike="noStrike">
              <a:solidFill>
                <a:srgbClr val="e3e3ff"/>
              </a:solidFill>
              <a:latin typeface="Arial"/>
            </a:endParaRPr>
          </a:p>
        </p:txBody>
      </p:sp>
      <p:sp>
        <p:nvSpPr>
          <p:cNvPr id="42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ross all 60 subjects, the median performance on the exam is a score just below 75. The null hypothesis for the median test is that this particular value is a good approximation of center for each of the three training grou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OGISTIC REGRESSION</a:t>
            </a: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iscuss the procedure for conducting Logistic Regression, we would use the sample file “</a:t>
            </a:r>
            <a:r>
              <a:rPr b="0" lang="en-US" sz="3200" spc="-1" strike="noStrike">
                <a:solidFill>
                  <a:srgbClr val="ffffff"/>
                </a:solidFill>
                <a:latin typeface="Arial"/>
              </a:rPr>
              <a:t>employeedata.sav</a:t>
            </a:r>
            <a:r>
              <a:rPr b="0" lang="en-US" sz="2400" spc="-1" strike="noStrike">
                <a:solidFill>
                  <a:srgbClr val="ffffff"/>
                </a:solidFill>
                <a:latin typeface="Arial"/>
              </a:rPr>
              <a:t>”. The analysis uses as a dependent the attitude variable minority, which is coded 0=no, 1=yes. The independent variables are years of education (educ), months of experience (prevexp), jobcategory (jobcat) ( 1=clerical, 2= custodial, 3= managerial), and gender (m,f)</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dian Test Frequency Table </a:t>
            </a:r>
            <a:endParaRPr b="0" lang="en-US" sz="4400" spc="-1" strike="noStrike">
              <a:solidFill>
                <a:srgbClr val="e3e3ff"/>
              </a:solidFill>
              <a:latin typeface="Arial"/>
            </a:endParaRPr>
          </a:p>
        </p:txBody>
      </p:sp>
      <p:sp>
        <p:nvSpPr>
          <p:cNvPr id="42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est this hypothesis, each group is divided into two subgroups: those whose scores fall at or below the median, and those whose scores are above it. The result is a two-way frequency table with two rows and g columns, where g is the number of categories in your grouping varia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dian Test Frequency Table </a:t>
            </a:r>
            <a:endParaRPr b="0" lang="en-US" sz="4400" spc="-1" strike="noStrike">
              <a:solidFill>
                <a:srgbClr val="e3e3ff"/>
              </a:solidFill>
              <a:latin typeface="Arial"/>
            </a:endParaRPr>
          </a:p>
        </p:txBody>
      </p:sp>
      <p:sp>
        <p:nvSpPr>
          <p:cNvPr id="4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is table, for example, the first cell is a count of the number of employees who received standard training and scored above the median. While the null hypothesis would predict that about 10 subjects scored above the median, only four subjects in this group did so.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ddition to standard training, group 2 also received some technical training. Unlike the other groups, the median for all trainees does what the null hypothesis says it should do: it nearly divides this group into two equal subgroup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dian Test Frequency Table</a:t>
            </a:r>
            <a:endParaRPr b="0" lang="en-US" sz="4400" spc="-1" strike="noStrike">
              <a:solidFill>
                <a:srgbClr val="e3e3ff"/>
              </a:solidFill>
              <a:latin typeface="Arial"/>
            </a:endParaRPr>
          </a:p>
        </p:txBody>
      </p:sp>
      <p:sp>
        <p:nvSpPr>
          <p:cNvPr id="42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final training group, those with exam scores greater than the median outnumber those at or below it by a margin of three to one. Like group 1, the null hypothesis does not provide a good approximation of center for these traine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this two-way frequency table, a chi-square statistic can be calculated to test the null hypothesis of row and column independence. In fact, the median test is a chi-square test of independence between group membership and the proportion of cases above and below the medi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dian Test Table </a:t>
            </a:r>
            <a:endParaRPr b="0" lang="en-US" sz="4400" spc="-1" strike="noStrike">
              <a:solidFill>
                <a:srgbClr val="e3e3ff"/>
              </a:solidFill>
              <a:latin typeface="Arial"/>
            </a:endParaRPr>
          </a:p>
        </p:txBody>
      </p:sp>
      <p:sp>
        <p:nvSpPr>
          <p:cNvPr id="4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hi-square value is obtained in the usual fashion for two-way tables. For each cell, the distance between the observed and expected counts is squared, then divided by the expected value. Finally, these quantities are summed across all cells. For this table, the value is 12.4.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grees of freedom for the frequency table are equal to (rows - 1) * (columns - 1). In this case, that is 1 * 2 = 2.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dian Test Table</a:t>
            </a:r>
            <a:endParaRPr b="0" lang="en-US" sz="4400" spc="-1" strike="noStrike">
              <a:solidFill>
                <a:srgbClr val="e3e3ff"/>
              </a:solidFill>
              <a:latin typeface="Arial"/>
            </a:endParaRPr>
          </a:p>
        </p:txBody>
      </p:sp>
      <p:sp>
        <p:nvSpPr>
          <p:cNvPr id="4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symptotic significance tells us how often we can expect a chi-square value at least as large as 12.4 in similar repeated samples, if there really is no relationship between the median and group membership. The pFrom this analysis, the manager learns that type of training resulted in different median scores between the group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ees who received the hands-on tutorial have a higher median value than either their counterparts who received standard training or additional technical training.robability is very low: about two times per thousand.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dian Test Table</a:t>
            </a:r>
            <a:endParaRPr b="0" lang="en-US" sz="4400" spc="-1" strike="noStrike">
              <a:solidFill>
                <a:srgbClr val="e3e3ff"/>
              </a:solidFill>
              <a:latin typeface="Arial"/>
            </a:endParaRPr>
          </a:p>
        </p:txBody>
      </p:sp>
      <p:sp>
        <p:nvSpPr>
          <p:cNvPr id="4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is analysis, the manager learns that type of training resulted in different median scores between the groups. Trainees who received the hands-on tutorial have a higher median value than either their counterparts who received standard training or additional technical trai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Using Kruskal-Wallis to Test Ordinal Outcomes </a:t>
            </a:r>
            <a:endParaRPr b="0" lang="en-US" sz="4000" spc="-1" strike="noStrike">
              <a:solidFill>
                <a:srgbClr val="e3e3ff"/>
              </a:solidFill>
              <a:latin typeface="Arial"/>
            </a:endParaRPr>
          </a:p>
        </p:txBody>
      </p:sp>
      <p:sp>
        <p:nvSpPr>
          <p:cNvPr id="4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ricultural researchers are studying the effect of mulch color on the taste of crops. Strawberries grown in red, blue, and black mulch were rated by taste-testers on an ordinal scale of one to five (far below to far above average).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sults are collected in the file tastetest.sav . Use the Kruskal-Wallis test to determine if taste varies by mulch col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unning the Analysis </a:t>
            </a:r>
            <a:endParaRPr b="0" lang="en-US" sz="4400" spc="-1" strike="noStrike">
              <a:solidFill>
                <a:srgbClr val="e3e3ff"/>
              </a:solidFill>
              <a:latin typeface="Arial"/>
            </a:endParaRPr>
          </a:p>
        </p:txBody>
      </p:sp>
      <p:sp>
        <p:nvSpPr>
          <p:cNvPr id="4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begin the analysis, from the menus choos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alyze</a:t>
            </a:r>
            <a:br>
              <a:rPr sz="3200"/>
            </a:br>
            <a:r>
              <a:rPr b="0" lang="en-US" sz="3200" spc="-1" strike="noStrike">
                <a:solidFill>
                  <a:srgbClr val="ffffff"/>
                </a:solidFill>
                <a:latin typeface="Arial"/>
              </a:rPr>
              <a:t>   Nonparametric Tests</a:t>
            </a:r>
            <a:br>
              <a:rPr sz="3200"/>
            </a:br>
            <a:r>
              <a:rPr b="0" lang="en-US" sz="3200" spc="-1" strike="noStrike">
                <a:solidFill>
                  <a:srgbClr val="ffffff"/>
                </a:solidFill>
                <a:latin typeface="Arial"/>
              </a:rPr>
              <a:t>    K Independent Sampl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ect Taste scale as the test variabl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lect Mulch color as the grouping variabl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lick Define Rang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unning the Analysis </a:t>
            </a:r>
            <a:endParaRPr b="0" lang="en-US" sz="4400" spc="-1" strike="noStrike">
              <a:solidFill>
                <a:srgbClr val="e3e3ff"/>
              </a:solidFill>
              <a:latin typeface="Arial"/>
            </a:endParaRPr>
          </a:p>
        </p:txBody>
      </p:sp>
      <p:sp>
        <p:nvSpPr>
          <p:cNvPr id="4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1 as the minimum and 3 as the maximum valu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lick Continu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lick OK in the Tests for Several Independent Samples dialog box.</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Kruskal-Wallis Rank Table </a:t>
            </a:r>
            <a:endParaRPr b="0" lang="en-US" sz="4400" spc="-1" strike="noStrike">
              <a:solidFill>
                <a:srgbClr val="e3e3ff"/>
              </a:solidFill>
              <a:latin typeface="Arial"/>
            </a:endParaRPr>
          </a:p>
        </p:txBody>
      </p:sp>
      <p:sp>
        <p:nvSpPr>
          <p:cNvPr id="4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Kruskal-Wallis test uses ranks of the original values and not the values themselves. That's appropriate in this case, because the scale used by the taste-testers is ordinal.</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irst, each case is ranked without regard to group membership. Cases tied on a particular value receive the average rank for that value. After ranking the cases, the ranks are summed within group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CTOR ANALYSIS</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a company wants to identify some specific factors which influence customers to buy a particular product. Let those factors be price, quality, availability, quantity, packaging, prestige, experience with the product, and popularity. Customer responses are obtained on a scale of 1 to 7 , where 1 refers to “ not at all important” , 2 refers to “ not important “, 3 refers to “ less important” , 4 refers to “ important”, 5 refers to “ more important”, 6 refers to “ very important”, and 7 refers to “ Maximum importan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sample data file “ gb_04_09.sav”</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Kruskal-Wallis Test Table </a:t>
            </a:r>
            <a:endParaRPr b="0" lang="en-US" sz="4400" spc="-1" strike="noStrike">
              <a:solidFill>
                <a:srgbClr val="e3e3ff"/>
              </a:solidFill>
              <a:latin typeface="Arial"/>
            </a:endParaRPr>
          </a:p>
        </p:txBody>
      </p:sp>
      <p:sp>
        <p:nvSpPr>
          <p:cNvPr id="4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Kruskal-Wallis statistic measures how much the group ranks differ from the average rank of all group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chi-square value is obtained by squaring each group's distance from the average of all ranks, weighting by its sample size, summing across groups, and multiplying by a constant The degrees of freedom for the chi-square statistic are equal to the number of groups minus on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Kruskal-Wallis Test Table </a:t>
            </a:r>
            <a:endParaRPr b="0" lang="en-US" sz="4400" spc="-1" strike="noStrike">
              <a:solidFill>
                <a:srgbClr val="e3e3ff"/>
              </a:solidFill>
              <a:latin typeface="Arial"/>
            </a:endParaRPr>
          </a:p>
        </p:txBody>
      </p:sp>
      <p:sp>
        <p:nvSpPr>
          <p:cNvPr id="4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symptotic significance estimates the probability of obtaining a chi-square statistic greater than or equal to the one displayed, if there truly are no differences between the group ranks. A chi-square of 9.751 with 2 degrees of freedom should occur only about 8 times per 1,000.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able tells us the ratings of the strawberries differed by type of mulch used for cultivation. Like the F test in standard ANOVA, Kruskal-Wallis does not tell us how the groups differed, only that they are different in some way. The Mann-Whitney test could be used for pairwise comparis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ctor Analysis</a:t>
            </a:r>
            <a:endParaRPr b="0" lang="en-US" sz="44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anufacturer of fabricating parts is interested in identifying the determinants of a successful salesperson. The manufacturer has on file the information shown in the file name gb_factor_08. He is wondering whether he could reduce these seven variables to two or three factors for a meaningful appreciation of the proble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OGISTIC REGRESSION-1</a:t>
            </a: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istic regression is useful for situations in which you want to be able to predict the presence or absence of a characteristic or outcome based on values of a set of predictor variables. It is similar to a linear regression model but is suited to models where the dependent variable is dichotomous. Logistic regression coefficients can be used to estimate odds ratios for each of the independent variables in the model. Logistic regression is applicable to a broader range of research situations than discriminant analys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OGISTIC REGRESSION-2</a:t>
            </a:r>
            <a:endParaRPr b="0" lang="en-US" sz="44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stics. For each analysis: total cases, selected cases, valid cases. For each categorical variable: parameter coding. For each step: variable(s) entered or removed, iteration history, -2 log-likelihood, goodness of fit, Hosmer-Lemeshow goodness-of-fit statistic, model chi-square, improvement chi-square, classification table, correlations between variables, observed groups and predicted probabilities chart, residual chi-square. For each variable in the equation: coefficient (B), standard error of B, Wald statistic, R, estimated odds ratio (exp(B)), confidence interval for exp(B), log-likelihood if term removed from model. For each variable not in the equation: score statistic, R. For each case: observed group, predicted probability, predicted group, residual, standardized residu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Introduction</a:t>
            </a:r>
            <a:br>
              <a:rPr sz="4000"/>
            </a:br>
            <a:endParaRPr b="0" lang="en-US" sz="40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SS IS THE ACRONYM FOR STATISTICAL PACKAGE FOR SOCIAL SCIENC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S MACINTOSH,WINDOWS AS WELL AS UNIX OPERATING SYST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ORT AS WELL AS EXPOR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OGISTIC REGRESSION-3</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The dependent variable should be dichotomous. Independent variables can be interval level or categorical; if categorical, they should be dummy or indicator coded (there is an option in the procedure to recode categorical variables automatically).</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sumptions. Logistic regression does not rely on distributional assumptions in the same sense that discriminant analysis does. However, your solution may be more stable if your predictors have a multivariate normal distribution. Additionally, as with other forms of regression, multicollinearity among the predictors can lead to biased estimates and inflated standard errors. The procedure is most effective when group membership is a truly categorical variable; if group membership is based on values of a continuous variable (for example, "high IQ" versus "low IQ"), you should consider using linear regression to take advantage of the richer information offered by the continuous variable itself.</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ed procedures. Use the Scatterplot procedure to screen your data for multicollinearity. If assumptions of multivariate normality and equal variance-covariance matrices are met, you may be able to get a quicker solution using the Discriminant Analysis procedure. If all of your predictor variables are categorical, you can also use the Loglinear procedure. If your dependent variable is continuous, use the Linear Regression procedure. You can use the ROC Curve procedure to plot probabilities saved with the Logistic Regression procedu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OGISTIC REGRESSION-4</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Obtain a Logistic Regression Analysi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the menus choose:</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yze</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egression</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Binary Logistic...</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lect one dichotomous dependent variable. This variable may be numeric or short string.</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one or more covariates. To include interaction terms, select all of the variables involved in the interaction and then select &gt;a*b&gt;.</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enter variables in groups (blocks), select the covariates for a block, and click Next to specify a new block. Repeat until all blocks have been specified.</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onally, you can select cases for analysis. Click Select, choose a selection variable, and click Ru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ctor Analysis Correlation Matrix</a:t>
            </a:r>
            <a:br>
              <a:rPr sz="4000"/>
            </a:br>
            <a:br>
              <a:rPr sz="4000"/>
            </a:br>
            <a:endParaRPr b="0" lang="en-US" sz="40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table reports the correlations among the variables in your analysis.The values on the main diagonal are all 1.0, because each variable correlates perfectly with itself.Correlations above the main diagonal are a “mirror image” of those belo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should be relatively few correlations near zero. If you see a lot of very small correlations, you should reconsider using factor analysis with your data.You may see a table of significance values. These are p-values for testing whether the corresponding correlations are different from zero.Most of these should be small for a useful factor analy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lso see a determinant for the correlation matrix. This indicates the invertability of the matrix.If the determinant is zero, the correlation matrix cannot be inverted, and certain factor extraction methods will be impossible to compu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Factor Analysis KMO and Bartlett’s Test</a:t>
            </a:r>
            <a:br>
              <a:rPr sz="4000"/>
            </a:br>
            <a:br>
              <a:rPr sz="4000"/>
            </a:br>
            <a:endParaRPr b="0" lang="en-US" sz="28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table shows two tests which indicate the suitability of your data for factor analysis.The Kaiser-Meyer-Olkin Measure of Sampling Adequacy is a statistic which indicates the proportion of variance in your variables which is common variance, i.e. which might be caused by underlying factors.High values (close to 1.0) generally indicate that a factor analysis may be useful with your data. If the value is less than .50, the results of the factor analysis probably won’t be very use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tlett’s test of sphericity indicates whether your correlation matrix is an identity matrix, which would indicate that your variables are unrelated.The significance level gives the result of the test. Very small values (less than .05) indicate that there are probably significant relationships among your variables.A value higher than about .10 or so may indicate that your data are not suitable for factor analys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Factor Analysis Communalities</a:t>
            </a:r>
            <a:br>
              <a:rPr sz="2400"/>
            </a:br>
            <a:br>
              <a:rPr sz="4000"/>
            </a:br>
            <a:endParaRPr b="0" lang="en-US" sz="24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alities indicate the amount of variance in each variable that is accounted for.Initial communalities are estimates of the variance in each variable accounted for by all components or factors.For principal components analysis, this is always equal to 1.0 (for correlation analyses) or the variance of the variable (for covariance analyses).For other extraction methods, these values are the proportion (for correlation analyses) or the amount (for covariance analyses) of variance accounted for in each variable by the rest of the variab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raction communalities are estimates of the variance in each variable accounted for by the factors (or components) in the factor solution.Small values indicate variables that do not fit well with the factor solution, and should possibly be dropped from the analysi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analyzed a covariance matrix, you will see Raw and Rescaled communalities.Raw communalities are based on the covariances, so they are in the same scale as the item variances.Rescaled communalities are adjusted for item variances. They represent proportions of variance accounted for.Values for rescaled communalities range from 0 (completely unrelated) to 1 (completely determin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VERVIEW</a:t>
            </a:r>
            <a:br>
              <a:rPr sz="4000"/>
            </a:br>
            <a:br>
              <a:rPr sz="4000"/>
            </a:br>
            <a:endParaRPr b="0" lang="en-US" sz="40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SPSS FOR WINDOW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DATA EDITOR WINDOW</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ABLE VIEW</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VIEW</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PUT VIEW</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FT VIEW</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NTAX VIE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Factor Analysis Total Variance Explained</a:t>
            </a:r>
            <a:br>
              <a:rPr sz="2400"/>
            </a:br>
            <a:br>
              <a:rPr sz="4000"/>
            </a:br>
            <a:endParaRPr b="0" lang="en-US" sz="24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table gives eigenvalues, variance explained, and cumulative variance explained for your factor solution.The first panel gives values based on initial eigenvalues.For the initial solution, there are as many components or factors as there are variab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tal” column gives the amount of variance in the observed variables accounted for by each component or factor.The “% of Variance” column gives the percent of variance accounted for by each specific factor or component, relative to the total variance in all the variables.The “Cumulative %” column gives the percent of variance accounted for by all factors or components up to and including the current one.For instance the Cumulative % for the second factor is the sum of the % of Variance for the first and second fact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 good factor analysis, there are a few factors that explain a lot of the variance......and the rest of the factors explain relatively small amounts of vari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xtraction Sums of Squared Loadings group gives information regarding the extracted factors or components.For principal components extraction, these values will be the same as those reported under Initial Eigenvalues.For other extraction methods, these values will generally be smaller than the initial values, due to errors in measur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ve requested a factor rotation, you will see the results in the “Rotation Sums of Squared Loadings” group.The variance accounted for by rotated factors or components may be different from those reported for the extraction......but the Cumulative % for the set of factors or components will always be the s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ve requested a nonorthogonal rotation (promax or direct oblimin), you will only see a “Total” column.This is because for nonorthogonal rotations, the rotated factors or components share common variance.This means that variance cannot be partitioned uniquely among the factors or compon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re doing an analysis based on  covariances, you will see both raw and rescaled values.Rescaling only affects extraction and rotation values; i.e. raw and rescaled Initial Eigenvalues are the same.Rescaled values are standardized to account for variances in initial eigenval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CREE PLOT</a:t>
            </a:r>
            <a:endParaRPr b="0" lang="en-US" sz="4400" spc="-1" strike="noStrike">
              <a:solidFill>
                <a:srgbClr val="e3e3ff"/>
              </a:solidFill>
              <a:latin typeface="Arial"/>
            </a:endParaRPr>
          </a:p>
        </p:txBody>
      </p:sp>
      <p:graphicFrame>
        <p:nvGraphicFramePr>
          <p:cNvPr id="195" name="Object 3"/>
          <p:cNvGraphicFramePr/>
          <p:nvPr/>
        </p:nvGraphicFramePr>
        <p:xfrm>
          <a:off x="2411280" y="2119320"/>
          <a:ext cx="4319640" cy="3456000"/>
        </p:xfrm>
        <a:graphic>
          <a:graphicData uri="http://schemas.openxmlformats.org/presentationml/2006/ole">
            <p:oleObj r:id="rId1" spid="">
              <p:embed/>
              <p:pic>
                <p:nvPicPr>
                  <p:cNvPr id="196" name="Object 3" descr=""/>
                  <p:cNvPicPr/>
                  <p:nvPr/>
                </p:nvPicPr>
                <p:blipFill>
                  <a:blip r:embed="rId2"/>
                  <a:stretch/>
                </p:blipFill>
                <p:spPr>
                  <a:xfrm>
                    <a:off x="2411280" y="2119320"/>
                    <a:ext cx="4319640" cy="345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e3ff"/>
                </a:solidFill>
                <a:latin typeface="Arial"/>
              </a:rPr>
              <a:t>Factor Analysis Factor Matrix</a:t>
            </a:r>
            <a:br>
              <a:rPr sz="2000"/>
            </a:br>
            <a:br>
              <a:rPr sz="2000"/>
            </a:br>
            <a:endParaRPr b="0" lang="en-US" sz="20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table reports the factor loadings for each variable on the unrotated components or factors.Each number represents the correlation between the item and the unrotated factor.These correlations can help you formulate an interpretation of the factors or components.This is done by looking for a common thread among the variables that have large loadings for a particular factor or compon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re doing an analysis based on  covariances, you will see both raw and rescaled values.Raw values are covariances between variables and factors, i.e. they are in the scale of the original variables.Rescaled values are standardized so that all values are measured on the same sca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PSS MENUS</a:t>
            </a: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a:t>
            </a:r>
            <a:r>
              <a:rPr b="0" lang="en-US" sz="2800" spc="-1" strike="noStrike">
                <a:solidFill>
                  <a:srgbClr val="ffffff"/>
                </a:solidFill>
                <a:latin typeface="Arial"/>
              </a:rPr>
              <a:t>: </a:t>
            </a:r>
            <a:r>
              <a:rPr b="0" lang="en-US" sz="1400" spc="-1" strike="noStrike">
                <a:solidFill>
                  <a:srgbClr val="ffffff"/>
                </a:solidFill>
                <a:latin typeface="Arial"/>
              </a:rPr>
              <a:t>TO OPEN AN EXISTING FILE, TO READ DATA (FROM A TEXT FILE/EXCEL FILE) INTO DATA EDITOR WINDOW ,TO SAVE THE DATA FILE, AND TO EXIT SPSS FOR WINDOWS.</a:t>
            </a:r>
            <a:endParaRPr b="0" lang="en-US" sz="1400" spc="-1" strike="noStrike">
              <a:solidFill>
                <a:srgbClr val="ffffff"/>
              </a:solidFill>
              <a:latin typeface="Arial"/>
            </a:endParaRPr>
          </a:p>
          <a:p>
            <a:pPr marL="343080" indent="-343080">
              <a:lnSpc>
                <a:spcPct val="9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DIT:TO PERFORM FUNCTIONS LIKE COPY, CUT OR PASTE TO THE DATA EDITOR WINDOW.</a:t>
            </a:r>
            <a:endParaRPr b="0" lang="en-US" sz="1400" spc="-1" strike="noStrike">
              <a:solidFill>
                <a:srgbClr val="ffffff"/>
              </a:solidFill>
              <a:latin typeface="Arial"/>
            </a:endParaRPr>
          </a:p>
          <a:p>
            <a:pPr marL="343080" indent="-343080">
              <a:lnSpc>
                <a:spcPct val="9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 TO DEFINE VARIABLES, INSERT VARIABLES OR CASES, SORT CASES AND USE A VARIABLE TO WEIGHT CASES.</a:t>
            </a:r>
            <a:endParaRPr b="0" lang="en-US" sz="1400" spc="-1" strike="noStrike">
              <a:solidFill>
                <a:srgbClr val="ffffff"/>
              </a:solidFill>
              <a:latin typeface="Arial"/>
            </a:endParaRPr>
          </a:p>
          <a:p>
            <a:pPr marL="343080" indent="-343080">
              <a:lnSpc>
                <a:spcPct val="9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NSFORM: TO DO SOME COMPUTATIONS ON VARIABLES, TO CREATE NEW VARIABLES FROM EXISTING ONES OR RECODE OLD VARIABLES.</a:t>
            </a:r>
            <a:endParaRPr b="0" lang="en-US" sz="1400" spc="-1" strike="noStrike">
              <a:solidFill>
                <a:srgbClr val="ffffff"/>
              </a:solidFill>
              <a:latin typeface="Arial"/>
            </a:endParaRPr>
          </a:p>
          <a:p>
            <a:pPr marL="343080" indent="-343080">
              <a:lnSpc>
                <a:spcPct val="9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ALYZE: TO DO STATISTICAL ANALYSIS , FROM DESCRIPTIVE STATISTICS TO TESTING OF HYPOTHESIS.</a:t>
            </a:r>
            <a:endParaRPr b="0" lang="en-US" sz="1400" spc="-1" strike="noStrike">
              <a:solidFill>
                <a:srgbClr val="ffffff"/>
              </a:solidFill>
              <a:latin typeface="Arial"/>
            </a:endParaRPr>
          </a:p>
          <a:p>
            <a:pPr marL="343080" indent="-343080">
              <a:lnSpc>
                <a:spcPct val="9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RAPHS: TO OBTAIN HIGH RESOLUTIONS PLOTS AND GRAPHS THAT CAN BE EDITED IN CHART EDITOR WINDOW.</a:t>
            </a:r>
            <a:endParaRPr b="0" lang="en-US" sz="1400" spc="-1" strike="noStrike">
              <a:solidFill>
                <a:srgbClr val="ffffff"/>
              </a:solidFill>
              <a:latin typeface="Arial"/>
            </a:endParaRPr>
          </a:p>
          <a:p>
            <a:pPr marL="343080" indent="-343080">
              <a:lnSpc>
                <a:spcPct val="9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TILITIES: TO RUN SCRIPT AND TO DISPLAY INFORMATION ON THE CONTENTS OF SPSS DATA FILES.</a:t>
            </a:r>
            <a:endParaRPr b="0" lang="en-US" sz="1400" spc="-1" strike="noStrike">
              <a:solidFill>
                <a:srgbClr val="ffffff"/>
              </a:solidFill>
              <a:latin typeface="Arial"/>
            </a:endParaRPr>
          </a:p>
          <a:p>
            <a:pPr marL="343080" indent="-343080">
              <a:lnSpc>
                <a:spcPct val="9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DOW: TO MOVE TO ANY OPEN WINDOW OR TO SEE WHICH WINDOW IS ACTIVE . THE WINDOW WITH A CHECK MARK IS ACTIVE ONE.</a:t>
            </a:r>
            <a:endParaRPr b="0" lang="en-US" sz="1400" spc="-1" strike="noStrike">
              <a:solidFill>
                <a:srgbClr val="ffffff"/>
              </a:solidFill>
              <a:latin typeface="Arial"/>
            </a:endParaRPr>
          </a:p>
          <a:p>
            <a:pPr marL="343080" indent="-343080">
              <a:lnSpc>
                <a:spcPct val="9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LP: TO GET HELP ON TOPICS IN SPSS AND TO ASK THE STATISTICS COACH SOME QUESTION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common to see many items with large loadings on several of the unrotated factors, which can make interpretation difficult. In these cases, it can be helpful to examine a rotated solu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e3ff"/>
                </a:solidFill>
                <a:latin typeface="Arial"/>
              </a:rPr>
              <a:t>Factor Analysis Reproduced Correlations</a:t>
            </a:r>
            <a:br>
              <a:rPr sz="2000"/>
            </a:br>
            <a:br>
              <a:rPr sz="4000"/>
            </a:br>
            <a:endParaRPr b="0" lang="en-US" sz="2000" spc="-1" strike="noStrike">
              <a:solidFill>
                <a:srgbClr val="e3e3ff"/>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table gives reproduced correlations (or covariances) and residuals for the factor analysis solution.This shows the predicted pattern of relationships if your factor analysis solution is assumed to be correct.If the solution is a good one, the reproduced correlations (or covariances) will be close to the observed values.Residuals show the difference between the predicted and observed values.For a good factor analysis solution, most of these values will be smal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e3ff"/>
                </a:solidFill>
                <a:latin typeface="Arial"/>
              </a:rPr>
              <a:t>Factor Analysis Rotated Factor Matrix</a:t>
            </a:r>
            <a:br>
              <a:rPr sz="4000"/>
            </a:br>
            <a:br>
              <a:rPr sz="4000"/>
            </a:br>
            <a:endParaRPr b="0" lang="en-US" sz="2000" spc="-1" strike="noStrike">
              <a:solidFill>
                <a:srgbClr val="e3e3ff"/>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table (called the Pattern Matrix for oblique rotations) reports the factor loadings for each variable on the components or factors after rotation.Each number represents the partial correlation between the item and the rotated factor.These correlations can help you formulate an interpretation of the factors or components.This is done by looking for a common thread among the variables that have large loadings for a particular factor or compon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re doing an analysis based on  covariances, you will see both raw and rescaled values.Raw values are covariances between variables and factors, i.e. they are in the scale of the original variables.Rescaled values are standardized so that all values are measured on the same sca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Factor Analysis Factor Transformation Matrix</a:t>
            </a:r>
            <a:br>
              <a:rPr sz="2400"/>
            </a:br>
            <a:br>
              <a:rPr sz="2400"/>
            </a:br>
            <a:endParaRPr b="0" lang="en-US" sz="2400" spc="-1" strike="noStrike">
              <a:solidFill>
                <a:srgbClr val="e3e3ff"/>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actor transformation matrix describes the specific rotation applied to your factor solution.This matrix is used to compute the rotated factor matrix from the original (unrotated) factor matrix.If the off-diagonal elements are close to zero, the rotation was relatively small.If the off-diagonal elements are large (greater than ±0.5), a larger rotation was appli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USTER ANALYSIS</a:t>
            </a:r>
            <a:endParaRPr b="0" lang="en-US" sz="4400" spc="-1" strike="noStrike">
              <a:solidFill>
                <a:srgbClr val="e3e3ff"/>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rej India Ltd. Wants to map the profile of its target customer in terms of lifestyle, attitude, and per captions. Godrej’s marketing managers prepare a set of fifteen statements, which according to the market research team will measure many of the variables of interest. The respondent had to agree or disagree with each statement on a scale of 1 to 5.</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sample data file gb_05_rav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NONPARAMETRIC PROCEDURE</a:t>
            </a:r>
            <a:endParaRPr b="0" lang="en-US" sz="4000" spc="-1" strike="noStrike">
              <a:solidFill>
                <a:srgbClr val="e3e3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es based on</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ked values</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tion of how many values in one distribution are larger ( or smaller) than values in another distribution.</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f weighted comparisons.</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s to determine whether a distribution of values deviates from randomness or is binomially distributed.</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group tests of deviation from normality.</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isons of frequencies, and</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ulation of the frequency of values above or below a grand median to compare group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CEDURES</a:t>
            </a:r>
            <a:endParaRPr b="0" lang="en-US" sz="44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n-Whitney rank-sum test</a:t>
            </a:r>
            <a:endParaRPr b="0" lang="en-US" sz="2800" spc="-1" strike="noStrike">
              <a:solidFill>
                <a:srgbClr val="ffffff"/>
              </a:solidFill>
              <a:latin typeface="Arial"/>
            </a:endParaRPr>
          </a:p>
          <a:p>
            <a:pPr marL="609480" indent="-609480">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 Test</a:t>
            </a:r>
            <a:endParaRPr b="0" lang="en-US" sz="2800" spc="-1" strike="noStrike">
              <a:solidFill>
                <a:srgbClr val="ffffff"/>
              </a:solidFill>
              <a:latin typeface="Arial"/>
            </a:endParaRPr>
          </a:p>
          <a:p>
            <a:pPr marL="609480" indent="-609480">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coxon matched-pairs signed-ranks test</a:t>
            </a:r>
            <a:endParaRPr b="0" lang="en-US" sz="2800" spc="-1" strike="noStrike">
              <a:solidFill>
                <a:srgbClr val="ffffff"/>
              </a:solidFill>
              <a:latin typeface="Arial"/>
            </a:endParaRPr>
          </a:p>
          <a:p>
            <a:pPr marL="609480" indent="-609480">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s Test</a:t>
            </a:r>
            <a:endParaRPr b="0" lang="en-US" sz="2800" spc="-1" strike="noStrike">
              <a:solidFill>
                <a:srgbClr val="ffffff"/>
              </a:solidFill>
              <a:latin typeface="Arial"/>
            </a:endParaRPr>
          </a:p>
          <a:p>
            <a:pPr marL="609480" indent="-609480">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nomial Test</a:t>
            </a:r>
            <a:endParaRPr b="0" lang="en-US" sz="2800" spc="-1" strike="noStrike">
              <a:solidFill>
                <a:srgbClr val="ffffff"/>
              </a:solidFill>
              <a:latin typeface="Arial"/>
            </a:endParaRPr>
          </a:p>
          <a:p>
            <a:pPr marL="609480" indent="-609480">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olmogorov-Smirnov one-sample test</a:t>
            </a:r>
            <a:endParaRPr b="0" lang="en-US" sz="2800" spc="-1" strike="noStrike">
              <a:solidFill>
                <a:srgbClr val="ffffff"/>
              </a:solidFill>
              <a:latin typeface="Arial"/>
            </a:endParaRPr>
          </a:p>
          <a:p>
            <a:pPr marL="609480" indent="-609480">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sample chi-square test</a:t>
            </a:r>
            <a:endParaRPr b="0" lang="en-US" sz="2800" spc="-1" strike="noStrike">
              <a:solidFill>
                <a:srgbClr val="ffffff"/>
              </a:solidFill>
              <a:latin typeface="Arial"/>
            </a:endParaRPr>
          </a:p>
          <a:p>
            <a:pPr marL="609480" indent="-609480">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idman one-way anova</a:t>
            </a:r>
            <a:endParaRPr b="0" lang="en-US" sz="2800" spc="-1" strike="noStrike">
              <a:solidFill>
                <a:srgbClr val="ffffff"/>
              </a:solidFill>
              <a:latin typeface="Arial"/>
            </a:endParaRPr>
          </a:p>
          <a:p>
            <a:pPr marL="609480" indent="-609480">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sample median t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ata File</a:t>
            </a:r>
            <a:endParaRPr b="0" lang="en-US" sz="4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ll procedures we use grades.sav file.</a:t>
            </a: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le contains the following variables:</a:t>
            </a:r>
            <a:endParaRPr b="0" lang="en-US" sz="3200" spc="-1" strike="noStrike">
              <a:solidFill>
                <a:srgbClr val="ffffff"/>
              </a:solidFill>
              <a:latin typeface="Arial"/>
            </a:endParaRPr>
          </a:p>
          <a:p>
            <a:pPr marL="609480" indent="-609480">
              <a:lnSpc>
                <a:spcPct val="90000"/>
              </a:lnSpc>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der    2. Five 10-point quizzes(quiz1 to quiz 5) 3. final ( the score on a 75-point final exam)  4. ethnic ( the ethnic makeup of the sample) 5. section ( membership of subjects in the three sections of the class)  N=10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ONPARAMETRIC TESTS</a:t>
            </a:r>
            <a:endParaRPr b="0" lang="en-US" sz="44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umber of nonparametric tests are available, including: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0" lang="en-US" sz="2800" spc="-1" strike="noStrike" u="sng">
                <a:solidFill>
                  <a:srgbClr val="00ffcc"/>
                </a:solidFill>
                <a:uFillTx/>
                <a:latin typeface="Arial"/>
                <a:hlinkClick r:id="rId1"/>
              </a:rPr>
              <a:t>Chi-Square Test</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0" lang="en-US" sz="2800" spc="-1" strike="noStrike" u="sng">
                <a:solidFill>
                  <a:srgbClr val="00ffcc"/>
                </a:solidFill>
                <a:uFillTx/>
                <a:latin typeface="Arial"/>
                <a:hlinkClick r:id="rId2"/>
              </a:rPr>
              <a:t>Binomial Test</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0" lang="en-US" sz="2800" spc="-1" strike="noStrike" u="sng">
                <a:solidFill>
                  <a:srgbClr val="00ffcc"/>
                </a:solidFill>
                <a:uFillTx/>
                <a:latin typeface="Arial"/>
                <a:hlinkClick r:id="rId3"/>
              </a:rPr>
              <a:t>Runs Test</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e-Sample Kolmogorov-Smirnov Test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Independent-Samples Tests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s for Several Independent Samples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Related-Samples Tests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s for Several Related Sample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ASIC FUNCTIONS</a:t>
            </a: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ORTING DATA FROM EXCEL AND ASCII FIL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TERING DATA IN SPS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ING SPSS DAT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TING A NEW VARIA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NONPARAMETRIC CHI-SQUARE</a:t>
            </a:r>
            <a:endParaRPr b="0" lang="en-US" sz="4000" spc="-1" strike="noStrike">
              <a:solidFill>
                <a:srgbClr val="e3e3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hi-Square Test procedure tabulates a variable into categories and tests the hypothesis that the observed frequencies do not differ from their expected valu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Square Test allows you to:</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 all categories of the test variable, or limit the test to a specific range.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standard or customized expected values.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tain descriptive statistics and/or quartiles on the test variab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esting Independence</a:t>
            </a: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large hospital schedules discharge support staff assuming that patients leave the hospital at a fairly constant rate throughout the week. However, because of increasing complaints of staff shortages, the hospital administration wants to determine whether the number of discharges varies by the day of the week.</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example uses the file dischargedata.sav . Use Chi-Square Test to test the assumption that patients leave the hospital at a constant rat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HI-SQUARE</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case is a day of the week, and to perform the chi-square test, you must first weight the cases by frequency of patient discharg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weight the cases, from the Data Editor menus choos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ata</a:t>
            </a:r>
            <a:br>
              <a:rPr sz="3200"/>
            </a:br>
            <a:r>
              <a:rPr b="0" lang="en-US" sz="3200" spc="-1" strike="noStrike">
                <a:solidFill>
                  <a:srgbClr val="ffffff"/>
                </a:solidFill>
                <a:latin typeface="Arial"/>
              </a:rPr>
              <a:t>   Weight Ca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HI-SQUARE</a:t>
            </a: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ect Weight cases b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lect Average Daily Discharges as the frequency variabl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lick OK.</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ses are now weighted by frequency of patient dischar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HI-SQUARE</a:t>
            </a:r>
            <a:endParaRPr b="0" lang="en-US" sz="4400" spc="-1" strike="noStrike">
              <a:solidFill>
                <a:srgbClr val="e3e3ff"/>
              </a:solidFill>
              <a:latin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begin the analysis, from the menus choos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alyze</a:t>
            </a:r>
            <a:br>
              <a:rPr sz="3200"/>
            </a:br>
            <a:r>
              <a:rPr b="0" lang="en-US" sz="3200" spc="-1" strike="noStrike">
                <a:solidFill>
                  <a:srgbClr val="ffffff"/>
                </a:solidFill>
                <a:latin typeface="Arial"/>
              </a:rPr>
              <a:t>  Nonparametric Tests</a:t>
            </a:r>
            <a:br>
              <a:rPr sz="3200"/>
            </a:br>
            <a:r>
              <a:rPr b="0" lang="en-US" sz="3200" spc="-1" strike="noStrike">
                <a:solidFill>
                  <a:srgbClr val="ffffff"/>
                </a:solidFill>
                <a:latin typeface="Arial"/>
              </a:rPr>
              <a:t>   Chi-Squa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HI-SQUARE</a:t>
            </a:r>
            <a:endParaRPr b="0" lang="en-US" sz="4400" spc="-1" strike="noStrike">
              <a:solidFill>
                <a:srgbClr val="e3e3ff"/>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ect Day of the Week as the test variabl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lick O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esting a Specific Range </a:t>
            </a:r>
            <a:endParaRPr b="0" lang="en-US" sz="4400" spc="-1" strike="noStrike">
              <a:solidFill>
                <a:srgbClr val="e3e3ff"/>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default, the Chi-Square Test procedure builds frequencies and calculates an expected value based on all valid values of the test variable. However, you might want to restrict the range of the test to a contiguous subset of the available values. As the next example shows, the procedure easily allows for thi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spital requests a follow-up analysis: Can staff be scheduled assuming that patients discharged on weekdays only (Monday through Friday) leave at a constant daily 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running the analysis</a:t>
            </a:r>
            <a:endParaRPr b="0" lang="en-US" sz="4400" spc="-1" strike="noStrike">
              <a:solidFill>
                <a:srgbClr val="e3e3ff"/>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rerun the analysis, recall the Chi-Square Test dialog box.</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lect Use specified rang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ype 2 as the lower value and 6 as the upper valu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lick O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ummary</a:t>
            </a:r>
            <a:endParaRPr b="0" lang="en-US" sz="4400" spc="-1" strike="noStrike">
              <a:solidFill>
                <a:srgbClr val="e3e3ff"/>
              </a:solidFill>
              <a:latin typeface="Arial"/>
            </a:endParaRPr>
          </a:p>
        </p:txBody>
      </p:sp>
      <p:sp>
        <p:nvSpPr>
          <p:cNvPr id="2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the Chi-Square Test procedure, you found that the rate at which patients are discharged from the hospital is not constant over the course of an average week. This is largely due to greater numbers of discharges on Friday and vastly fewer numbers of discharges on Sunday. When you restricted the range of the test to weekdays, the discharge rates appeared to be more uniform. You may be able to correct staff shortages by adopting separate weekday and weekend staff schedul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lated Procedures</a:t>
            </a:r>
            <a:endParaRPr b="0" lang="en-US" sz="4400" spc="-1" strike="noStrike">
              <a:solidFill>
                <a:srgbClr val="e3e3ff"/>
              </a:solidFill>
              <a:latin typeface="Arial"/>
            </a:endParaRPr>
          </a:p>
        </p:txBody>
      </p:sp>
      <p:sp>
        <p:nvSpPr>
          <p:cNvPr id="2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hi-Square Test procedure is useful when you want to compare a single sample from a polychotomous variable to an expected set of values. The procedure tabulates this variable into a set of frequencies and tests this observed set against either a common expected value or a customized set of expected values. The entire range of the test variable is used by default; however, its range may be restricted to any set of contiguous values. Additionally, descriptive statistics and/or quartiles can be requested.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r variable has only two outcomes, you can alternatively use the Binomial Test procedure.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ATA ANALYSIS</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PTIVE STATISTIC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SQUARE TEST</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 TEST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WAY ANOV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LATIO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RESSIO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ISTIC REGRESSIO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OR ANALYSI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USTER ANALYS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inomial Test Procedure</a:t>
            </a:r>
            <a:endParaRPr b="0" lang="en-US" sz="4400" spc="-1" strike="noStrike">
              <a:solidFill>
                <a:srgbClr val="e3e3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inomial Test procedure compares an observed proportion of cases to the proportion expected under a binomial distribution with a specified probability parameter. The observed proportion is defined either by the number of cases having the first value of a dichotomous variable or by the number of cases at or below a given cut point on a scale variable. By default, the probability parameter for both groups is 0.5, although this may be changed. To change the probability, you enter a test proportion for the first group. The probability for the second group is equal to 1 minus the probability for the first group. Additionally, descriptive statistics and/or quartiles for the test variable may be display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aring Several Distribution</a:t>
            </a:r>
            <a:endParaRPr b="0" lang="en-US" sz="4400" spc="-1" strike="noStrike">
              <a:solidFill>
                <a:srgbClr val="e3e3ff"/>
              </a:solidFill>
              <a:latin typeface="Arial"/>
            </a:endParaRPr>
          </a:p>
        </p:txBody>
      </p:sp>
      <p:sp>
        <p:nvSpPr>
          <p:cNvPr id="2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lecommunications firm loses about 27% of its customers to churn each month. In order to properly focus churn reduction efforts, management wants to know if this percentage varies across predefined customer group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nformation is collected in the file telco.sav . Use the binomial test to determine whether a single rate of churn adequately describes the four major customer typ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paring the Data</a:t>
            </a:r>
            <a:endParaRPr b="0" lang="en-US" sz="4400" spc="-1" strike="noStrike">
              <a:solidFill>
                <a:srgbClr val="e3e3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rder to perform the test, you must first split the file by Customer category.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split the file, from the Data Editor menus choos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ata</a:t>
            </a:r>
            <a:br>
              <a:rPr sz="3200"/>
            </a:br>
            <a:r>
              <a:rPr b="0" lang="en-US" sz="3200" spc="-1" strike="noStrike">
                <a:solidFill>
                  <a:srgbClr val="ffffff"/>
                </a:solidFill>
                <a:latin typeface="Arial"/>
              </a:rPr>
              <a:t>   Split Fi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paring the Data</a:t>
            </a:r>
            <a:endParaRPr b="0" lang="en-US" sz="4400" spc="-1" strike="noStrike">
              <a:solidFill>
                <a:srgbClr val="e3e3ff"/>
              </a:solidFill>
              <a:latin typeface="Arial"/>
            </a:endParaRPr>
          </a:p>
        </p:txBody>
      </p:sp>
      <p:sp>
        <p:nvSpPr>
          <p:cNvPr id="2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ect Compare group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lect Customer category as the variable on which to base group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lick O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unning the analysis</a:t>
            </a:r>
            <a:endParaRPr b="0" lang="en-US" sz="4400" spc="-1" strike="noStrike">
              <a:solidFill>
                <a:srgbClr val="e3e3ff"/>
              </a:solidFill>
              <a:latin typeface="Arial"/>
            </a:endParaRPr>
          </a:p>
        </p:txBody>
      </p:sp>
      <p:sp>
        <p:nvSpPr>
          <p:cNvPr id="2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begin the analysis, from the menus choos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alyze</a:t>
            </a:r>
            <a:br>
              <a:rPr sz="3200"/>
            </a:br>
            <a:r>
              <a:rPr b="0" lang="en-US" sz="3200" spc="-1" strike="noStrike">
                <a:solidFill>
                  <a:srgbClr val="ffffff"/>
                </a:solidFill>
                <a:latin typeface="Arial"/>
              </a:rPr>
              <a:t>   Nonparametric Tests</a:t>
            </a:r>
            <a:br>
              <a:rPr sz="3200"/>
            </a:br>
            <a:r>
              <a:rPr b="0" lang="en-US" sz="3200" spc="-1" strike="noStrike">
                <a:solidFill>
                  <a:srgbClr val="ffffff"/>
                </a:solidFill>
                <a:latin typeface="Arial"/>
              </a:rPr>
              <a:t>    Binomial...</a:t>
            </a: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unning the analysis</a:t>
            </a:r>
            <a:endParaRPr b="0" lang="en-US" sz="4400" spc="-1" strike="noStrike">
              <a:solidFill>
                <a:srgbClr val="e3e3ff"/>
              </a:solidFill>
              <a:latin typeface="Arial"/>
            </a:endParaRPr>
          </a:p>
        </p:txBody>
      </p:sp>
      <p:sp>
        <p:nvSpPr>
          <p:cNvPr id="25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ect Churn within last month as the test variable.</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ype 0.27 as the test proportion.</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lick Options. </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ect Descriptive.</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lick Continue.</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lick OK in the Binomial Test dialog box.</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escriptive Statistics Table</a:t>
            </a:r>
            <a:endParaRPr b="0" lang="en-US" sz="4400" spc="-1" strike="noStrike">
              <a:solidFill>
                <a:srgbClr val="e3e3ff"/>
              </a:solidFill>
              <a:latin typeface="Arial"/>
            </a:endParaRPr>
          </a:p>
        </p:txBody>
      </p:sp>
      <p:sp>
        <p:nvSpPr>
          <p:cNvPr id="2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Churn within last month is a dichotomous variable, the mean tells us the proportion of churn within each customer type. Multiplying these proportions by 100 expresses the same data as percenta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td…..</a:t>
            </a:r>
            <a:endParaRPr b="0" lang="en-US" sz="4400" spc="-1" strike="noStrike">
              <a:solidFill>
                <a:srgbClr val="e3e3ff"/>
              </a:solidFill>
              <a:latin typeface="Arial"/>
            </a:endParaRPr>
          </a:p>
        </p:txBody>
      </p:sp>
      <p:sp>
        <p:nvSpPr>
          <p:cNvPr id="2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xample, the percentage of churn for customers subscribing only to basic service was 31%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ilarly, customers who prefer more high-end electronic services churned at a rate of about 27% within the last month. Similarly, customers who prefer more high-end electronic services churned at a rate of about 27% within the last month.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td….</a:t>
            </a:r>
            <a:endParaRPr b="0" lang="en-US" sz="4400" spc="-1" strike="noStrike">
              <a:solidFill>
                <a:srgbClr val="e3e3ff"/>
              </a:solidFill>
              <a:latin typeface="Arial"/>
            </a:endParaRPr>
          </a:p>
        </p:txBody>
      </p:sp>
      <p:sp>
        <p:nvSpPr>
          <p:cNvPr id="2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about 280 customers who subscribe to a set of convenience services (three-way calling, call forwarding, call waiting, etc.). Of these, only 16% recently churned.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ers who take advantage of all of the services offered by the firm churned the most--37%, or 10% higher than the average of all customers within the last month.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inomial test Table</a:t>
            </a:r>
            <a:endParaRPr b="0" lang="en-US" sz="4400" spc="-1" strike="noStrike">
              <a:solidFill>
                <a:srgbClr val="e3e3ff"/>
              </a:solidFill>
              <a:latin typeface="Arial"/>
            </a:endParaRPr>
          </a:p>
        </p:txBody>
      </p:sp>
      <p:sp>
        <p:nvSpPr>
          <p:cNvPr id="2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panel of the binomial test table displays one binomial test. For example, the first panel displays the test of the null hypothesis that the proportion of churn for Basic service users is the same as the proportion of churn in the total sa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escriptive Statistics</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the file gb_1_09</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OLAP</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Frequenc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Compare mean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Explo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ransform menu</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td….</a:t>
            </a:r>
            <a:endParaRPr b="0" lang="en-US" sz="4400" spc="-1" strike="noStrike">
              <a:solidFill>
                <a:srgbClr val="e3e3ff"/>
              </a:solidFill>
              <a:latin typeface="Arial"/>
            </a:endParaRPr>
          </a:p>
        </p:txBody>
      </p:sp>
      <p:sp>
        <p:nvSpPr>
          <p:cNvPr id="2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the 266 Basic service customers, 83 churned within the last month. The Observed Prop. column here shows that these 83 customers account for 31% of the total Basic service group in this sampl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 proportion of 0.27 suggests that we should expect 0.27 * 266, or about 72 customers, to have churned.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td….</a:t>
            </a:r>
            <a:endParaRPr b="0" lang="en-US" sz="4400" spc="-1" strike="noStrike">
              <a:solidFill>
                <a:srgbClr val="e3e3ff"/>
              </a:solidFill>
              <a:latin typeface="Arial"/>
            </a:endParaRPr>
          </a:p>
        </p:txBody>
      </p:sp>
      <p:sp>
        <p:nvSpPr>
          <p:cNvPr id="2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symptotic significance value is 0.07, which is above the conventional cutoff for statistical significance (0.05). By that standard, you cannot reject the null hypothesis that the churn rate for basic service customers is equal to the churn rate in the sample at large.</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same cannot be said for Plus service customers, however. In this case, the proportion, 0.16, is significantly lower than the test proportion. Many fewer Plus service customers found another service provider last month.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ummary</a:t>
            </a:r>
            <a:endParaRPr b="0" lang="en-US" sz="4400" spc="-1" strike="noStrike">
              <a:solidFill>
                <a:srgbClr val="e3e3ff"/>
              </a:solidFill>
              <a:latin typeface="Arial"/>
            </a:endParaRPr>
          </a:p>
        </p:txBody>
      </p:sp>
      <p:sp>
        <p:nvSpPr>
          <p:cNvPr id="2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other extreme, significantly more Total service customers were lost last month than the test proportion predicts.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the Binomial Test procedure, you have determined that the rate of churn differs across customer types. Now that Total Service customers have been identified as high-risk, you can focus further efforts on finding out why these customers are dissatisfi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Using a Cut Point to Define the Samples </a:t>
            </a:r>
            <a:endParaRPr b="0" lang="en-US" sz="4000" spc="-1" strike="noStrike">
              <a:solidFill>
                <a:srgbClr val="e3e3ff"/>
              </a:solidFill>
              <a:latin typeface="Arial"/>
            </a:endParaRPr>
          </a:p>
        </p:txBody>
      </p:sp>
      <p:sp>
        <p:nvSpPr>
          <p:cNvPr id="2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part of a continuing analysis of churn in their customer base, a telecommunications firm questions whether those who churn tend to be above or below the median household income of $47,000.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example uses the file telco.sav . Use the Binomial Test procedure to dynamically compute and test the proportion of each churn group falling below the median valu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paring the Data </a:t>
            </a:r>
            <a:endParaRPr b="0" lang="en-US" sz="4400" spc="-1" strike="noStrike">
              <a:solidFill>
                <a:srgbClr val="e3e3ff"/>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rder to perform the test, you must first split the file by Churn within last month.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split the file, from the Data Editor menus choos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ata</a:t>
            </a:r>
            <a:br>
              <a:rPr sz="3200"/>
            </a:br>
            <a:r>
              <a:rPr b="0" lang="en-US" sz="3200" spc="-1" strike="noStrike">
                <a:solidFill>
                  <a:srgbClr val="ffffff"/>
                </a:solidFill>
                <a:latin typeface="Arial"/>
              </a:rPr>
              <a:t>   Split Fi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paring the Data</a:t>
            </a:r>
            <a:endParaRPr b="0" lang="en-US" sz="4400" spc="-1" strike="noStrike">
              <a:solidFill>
                <a:srgbClr val="e3e3ff"/>
              </a:solidFill>
              <a:latin typeface="Arial"/>
            </a:endParaRPr>
          </a:p>
        </p:txBody>
      </p:sp>
      <p:sp>
        <p:nvSpPr>
          <p:cNvPr id="2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Reset to restore the default setting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lect Compare group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lect Churn within last month as the variable to base groups 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lick O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unning the Analysis </a:t>
            </a:r>
            <a:endParaRPr b="0" lang="en-US" sz="4400" spc="-1" strike="noStrike">
              <a:solidFill>
                <a:srgbClr val="e3e3ff"/>
              </a:solidFill>
              <a:latin typeface="Arial"/>
            </a:endParaRPr>
          </a:p>
        </p:txBody>
      </p:sp>
      <p:sp>
        <p:nvSpPr>
          <p:cNvPr id="2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begin the analysis, from the menus choos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alyze</a:t>
            </a:r>
            <a:br>
              <a:rPr sz="3200"/>
            </a:br>
            <a:r>
              <a:rPr b="0" lang="en-US" sz="3200" spc="-1" strike="noStrike">
                <a:solidFill>
                  <a:srgbClr val="ffffff"/>
                </a:solidFill>
                <a:latin typeface="Arial"/>
              </a:rPr>
              <a:t>   Nonparametric Tests</a:t>
            </a:r>
            <a:br>
              <a:rPr sz="3200"/>
            </a:br>
            <a:r>
              <a:rPr b="0" lang="en-US" sz="3200" spc="-1" strike="noStrike">
                <a:solidFill>
                  <a:srgbClr val="ffffff"/>
                </a:solidFill>
                <a:latin typeface="Arial"/>
              </a:rPr>
              <a:t>    Binomial...</a:t>
            </a: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unning the Analysis</a:t>
            </a:r>
            <a:endParaRPr b="0" lang="en-US" sz="4400" spc="-1" strike="noStrike">
              <a:solidFill>
                <a:srgbClr val="e3e3ff"/>
              </a:solidFill>
              <a:latin typeface="Arial"/>
            </a:endParaRPr>
          </a:p>
        </p:txBody>
      </p:sp>
      <p:sp>
        <p:nvSpPr>
          <p:cNvPr id="2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Reset to restore the default setting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lect Household income in thousands as the test variabl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ype 47 as the cut point to define the dichotom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p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Quartil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lick Continu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lick OK in the Binomial Test dialog box.</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Income Quartiles by Churn Group </a:t>
            </a:r>
            <a:endParaRPr b="0" lang="en-US" sz="4000" spc="-1" strike="noStrike">
              <a:solidFill>
                <a:srgbClr val="e3e3ff"/>
              </a:solidFill>
              <a:latin typeface="Arial"/>
            </a:endParaRPr>
          </a:p>
        </p:txBody>
      </p:sp>
      <p:sp>
        <p:nvSpPr>
          <p:cNvPr id="2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escriptives table displays the quartiles for each churn group. Generally, customers who churned last month have lower household incom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Binomial Test Table by Churn Group </a:t>
            </a:r>
            <a:endParaRPr b="0" lang="en-US" sz="4000" spc="-1" strike="noStrike">
              <a:solidFill>
                <a:srgbClr val="e3e3ff"/>
              </a:solidFill>
              <a:latin typeface="Arial"/>
            </a:endParaRPr>
          </a:p>
        </p:txBody>
      </p:sp>
      <p:sp>
        <p:nvSpPr>
          <p:cNvPr id="2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nomial test table is split by the values of Churn within last month. The first test selects only those customers in the sample who did not churn last month.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in this first split file group, the cut point has created two groups. The first group consists of those customers who did not churn and whose household income is less than or equal to the median for the total samp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HI- SQUARE TEST</a:t>
            </a: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the sample data file GSS93 subse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ect two variables life and Gend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ll hypothesis is that there is no association between Gender and lif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Binomial Test Table by Churn Group</a:t>
            </a:r>
            <a:endParaRPr b="0" lang="en-US" sz="4000" spc="-1" strike="noStrike">
              <a:solidFill>
                <a:srgbClr val="e3e3ff"/>
              </a:solidFill>
              <a:latin typeface="Arial"/>
            </a:endParaRPr>
          </a:p>
        </p:txBody>
      </p:sp>
      <p:sp>
        <p:nvSpPr>
          <p:cNvPr id="2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se data, just about half of those who did not churn fall at or below median income. As we would expect, the difference in proportions is not significan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of those 274 customers who churned last month, the proportion with household incomes at or below the median is significantly different from the null hypothesis value. Those who churn tend to be the less affluent customer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ummary</a:t>
            </a:r>
            <a:endParaRPr b="0" lang="en-US" sz="4400" spc="-1" strike="noStrike">
              <a:solidFill>
                <a:srgbClr val="e3e3ff"/>
              </a:solidFill>
              <a:latin typeface="Arial"/>
            </a:endParaRPr>
          </a:p>
        </p:txBody>
      </p:sp>
      <p:sp>
        <p:nvSpPr>
          <p:cNvPr id="2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a cut point to define the groups, you have found that a majority of the customers who churned within the last month fall below the median household income. Now that these customers have been identified as high-risk, you can focus further efforts on determining why these customers are dissatisfie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lated Procedure</a:t>
            </a:r>
            <a:endParaRPr b="0" lang="en-US" sz="4400" spc="-1" strike="noStrike">
              <a:solidFill>
                <a:srgbClr val="e3e3ff"/>
              </a:solidFill>
              <a:latin typeface="Arial"/>
            </a:endParaRPr>
          </a:p>
        </p:txBody>
      </p:sp>
      <p:sp>
        <p:nvSpPr>
          <p:cNvPr id="2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nomial Test procedure is useful when you want to compare a single sample from a dichotomous variable to an expected proportion. If the dichotomy does not exist in the data as a variable, one can be dynamically created based upon a cut point on a scale variable.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variable has more than two outcomes, try the Chi-Square Test procedure.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want to compare two dichotomous variables, try the McNemar test in the Two-Related-Samples Tests procedur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Runs Test Procedure </a:t>
            </a:r>
            <a:endParaRPr b="0" lang="en-US" sz="4400" spc="-1" strike="noStrike">
              <a:solidFill>
                <a:srgbClr val="e3e3ff"/>
              </a:solidFill>
              <a:latin typeface="Arial"/>
            </a:endParaRPr>
          </a:p>
        </p:txBody>
      </p:sp>
      <p:sp>
        <p:nvSpPr>
          <p:cNvPr id="2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statistical tests assume that the observations in a sample are independent; in other words, that the order in which the data were collected is irrelevant. If the order does matter, then the sample is not random, and you cannot draw accurate conclusions about the population from which the sample was drawn. Therefore, it is prudent to check the data for a violation of this important assumption.</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can use the Runs Test procedure to test whether the order of values of a variable is random. The procedure first classifies each value of the variable as falling above or below a cut point and then tests to ensure that there is no order to the resulting sequence.</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t point is based either on a measure of central tendency ( mean, median, or mode) or a custom value.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can obtain descriptive statistics and/or quartiles of the test variabl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xamining Usability Test Results </a:t>
            </a:r>
            <a:endParaRPr b="0" lang="en-US" sz="4000" spc="-1" strike="noStrike">
              <a:solidFill>
                <a:srgbClr val="e3e3ff"/>
              </a:solidFill>
              <a:latin typeface="Arial"/>
            </a:endParaRPr>
          </a:p>
        </p:txBody>
      </p:sp>
      <p:sp>
        <p:nvSpPr>
          <p:cNvPr id="2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commerce firm enlisted beta testers to browse and then rate their new Web site. Ratings were recorded as soon as each tester finished browsing. The team is concerned that ratings may be related to the amount of time spent browsing.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atings are collected in the file siteratings.sav . Use the Runs Test to test the hypothesis that time spent browsing is correlated with site ra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etermining a Cut Point </a:t>
            </a:r>
            <a:endParaRPr b="0" lang="en-US" sz="4400" spc="-1" strike="noStrike">
              <a:solidFill>
                <a:srgbClr val="e3e3ff"/>
              </a:solidFill>
              <a:latin typeface="Arial"/>
            </a:endParaRPr>
          </a:p>
        </p:txBody>
      </p:sp>
      <p:sp>
        <p:nvSpPr>
          <p:cNvPr id="2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ar chart will help determine the optimal cut point.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 create the chart, from the menus choos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raphs</a:t>
            </a:r>
            <a:br>
              <a:rPr sz="2800"/>
            </a:br>
            <a:r>
              <a:rPr b="0" lang="en-US" sz="2800" spc="-1" strike="noStrike">
                <a:solidFill>
                  <a:srgbClr val="ffffff"/>
                </a:solidFill>
                <a:latin typeface="Arial"/>
              </a:rPr>
              <a:t>  Bar...</a:t>
            </a:r>
            <a:br>
              <a:rPr sz="2800"/>
            </a:br>
            <a:r>
              <a:rPr b="0" lang="en-US" sz="2800" spc="-1" strike="noStrike">
                <a:solidFill>
                  <a:srgbClr val="ffffff"/>
                </a:solidFill>
                <a:latin typeface="Arial"/>
              </a:rPr>
              <a:t>Select Simple, and then click Define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Web Site Rating as the category axi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lick OK.</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ar Chart of the Test Variable </a:t>
            </a:r>
            <a:endParaRPr b="0" lang="en-US" sz="4400" spc="-1" strike="noStrike">
              <a:solidFill>
                <a:srgbClr val="e3e3ff"/>
              </a:solidFill>
              <a:latin typeface="Arial"/>
            </a:endParaRPr>
          </a:p>
        </p:txBody>
      </p:sp>
      <p:sp>
        <p:nvSpPr>
          <p:cNvPr id="2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cale for Web Site Rating theoretically ranges from 0 to 20, where 0 = highly unusable and 20 = highly usable. The actual range of scores is narrower, dispersing from a low of 6 to a high of 14.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on the team who believe that the rating scale is ordinal have argued to use the mode, or most frequently occurring score, as the cut point. However, the bar chart shows that the distribution of ratings is bimodal, with one mode at 8 and the second at 12.</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ar Chart of the Test Variable</a:t>
            </a:r>
            <a:endParaRPr b="0" lang="en-US" sz="4400" spc="-1" strike="noStrike">
              <a:solidFill>
                <a:srgbClr val="e3e3ff"/>
              </a:solidFill>
              <a:latin typeface="Arial"/>
            </a:endParaRPr>
          </a:p>
        </p:txBody>
      </p:sp>
      <p:sp>
        <p:nvSpPr>
          <p:cNvPr id="2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s have argued that the ratings should probably be considered a scale variable and that the median would be a useful cut point. After some discussion, the team decides that randomness will be tested with respect to all three cut points: the median and both mod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esting Multiple Cut Points </a:t>
            </a:r>
            <a:endParaRPr b="0" lang="en-US" sz="4400" spc="-1" strike="noStrike">
              <a:solidFill>
                <a:srgbClr val="e3e3ff"/>
              </a:solidFill>
              <a:latin typeface="Arial"/>
            </a:endParaRPr>
          </a:p>
        </p:txBody>
      </p:sp>
      <p:sp>
        <p:nvSpPr>
          <p:cNvPr id="2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begin the analysis, from the menus choos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alyze</a:t>
            </a:r>
            <a:br>
              <a:rPr sz="3200"/>
            </a:br>
            <a:r>
              <a:rPr b="0" lang="en-US" sz="3200" spc="-1" strike="noStrike">
                <a:solidFill>
                  <a:srgbClr val="ffffff"/>
                </a:solidFill>
                <a:latin typeface="Arial"/>
              </a:rPr>
              <a:t>  Nonparametric Tests</a:t>
            </a:r>
            <a:br>
              <a:rPr sz="3200"/>
            </a:br>
            <a:r>
              <a:rPr b="0" lang="en-US" sz="3200" spc="-1" strike="noStrike">
                <a:solidFill>
                  <a:srgbClr val="ffffff"/>
                </a:solidFill>
                <a:latin typeface="Arial"/>
              </a:rPr>
              <a:t>   Run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ect Web Site Rating as the test variabl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esting Multiple Cut Points</a:t>
            </a:r>
            <a:endParaRPr b="0" lang="en-US" sz="4400" spc="-1" strike="noStrike">
              <a:solidFill>
                <a:srgbClr val="e3e3ff"/>
              </a:solidFill>
              <a:latin typeface="Arial"/>
            </a:endParaRPr>
          </a:p>
        </p:txBody>
      </p:sp>
      <p:sp>
        <p:nvSpPr>
          <p:cNvPr id="3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dian is selected by default, so select Mode as a second cut point. Note that the higher of the two modes (12) will be used as the cut point for this test. Finally, select Custom, and type 8 as the third cut point value to tes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Option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 –TESTS</a:t>
            </a:r>
            <a:br>
              <a:rPr sz="4000"/>
            </a:br>
            <a:r>
              <a:rPr b="0" lang="en-US" sz="4000" spc="-1" strike="noStrike">
                <a:solidFill>
                  <a:srgbClr val="e3e3ff"/>
                </a:solidFill>
                <a:latin typeface="Arial"/>
              </a:rPr>
              <a:t>The Independent sample T-test</a:t>
            </a:r>
            <a:endParaRPr b="0" lang="en-US" sz="40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armaceutical company is researching the effectiveness of its new drug over the old drug  for which it has decided to use the T –test. The data relates to twenty patients suffering from high blood pressure that were arbitrarily selected and assigned to two separate groups. One group was given an existing drug for treatment and the other group was given the company’s new drug. The null hypothesis is that there is no difference between the blood pressure levels of the two group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the sample data file gb_2_0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esting Multiple Cut Points</a:t>
            </a:r>
            <a:endParaRPr b="0" lang="en-US" sz="4400" spc="-1" strike="noStrike">
              <a:solidFill>
                <a:srgbClr val="e3e3ff"/>
              </a:solidFill>
              <a:latin typeface="Arial"/>
            </a:endParaRPr>
          </a:p>
        </p:txBody>
      </p:sp>
      <p:sp>
        <p:nvSpPr>
          <p:cNvPr id="3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ect Descriptive and Quartil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lick Continu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lick OK in the Runs Test dialog bo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escriptive Statistics Table </a:t>
            </a:r>
            <a:endParaRPr b="0" lang="en-US" sz="4400" spc="-1" strike="noStrike">
              <a:solidFill>
                <a:srgbClr val="e3e3ff"/>
              </a:solidFill>
              <a:latin typeface="Arial"/>
            </a:endParaRPr>
          </a:p>
        </p:txBody>
      </p:sp>
      <p:sp>
        <p:nvSpPr>
          <p:cNvPr id="3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atistics table will help you understand more about the distribution of ratings in these data. While the default table is very wide, you can easily pivot it to column format.</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ouble-click the table to activate it. From the Viewer menus choos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ivot</a:t>
            </a:r>
            <a:br>
              <a:rPr sz="2800"/>
            </a:br>
            <a:r>
              <a:rPr b="0" lang="en-US" sz="2800" spc="-1" strike="noStrike">
                <a:solidFill>
                  <a:srgbClr val="ffffff"/>
                </a:solidFill>
                <a:latin typeface="Arial"/>
              </a:rPr>
              <a:t>  Transpose Rows and Column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 beta testers completed the task and submitted rating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escriptive Statistics Table</a:t>
            </a:r>
            <a:endParaRPr b="0" lang="en-US" sz="4400" spc="-1" strike="noStrike">
              <a:solidFill>
                <a:srgbClr val="e3e3ff"/>
              </a:solidFill>
              <a:latin typeface="Arial"/>
            </a:endParaRPr>
          </a:p>
        </p:txBody>
      </p:sp>
      <p:sp>
        <p:nvSpPr>
          <p:cNvPr id="3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9.94, the average rating is almost exactly at the center of the scale.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andard deviation is most useful as an index of variability in normal distributions. However, the runs test does not make any assumptions about normality, and we know from the bar chart that the distribution of ratings is not norm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s we observed in the bar chart, the actual ratings ranged from a low of 6 to a high of 14.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escriptive Statistics Table</a:t>
            </a:r>
            <a:endParaRPr b="0" lang="en-US" sz="4400" spc="-1" strike="noStrike">
              <a:solidFill>
                <a:srgbClr val="e3e3ff"/>
              </a:solidFill>
              <a:latin typeface="Arial"/>
            </a:endParaRPr>
          </a:p>
        </p:txBody>
      </p:sp>
      <p:sp>
        <p:nvSpPr>
          <p:cNvPr id="3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quartiles tell us that about half of the sample rated the Web site in the range 8 to 12. The median (10) is almost identical to the mean. Although the distribution of ratings is bimodal and not normal, it is also fairly symmetri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Runs Test Table with a Median Cut Point </a:t>
            </a:r>
            <a:endParaRPr b="0" lang="en-US" sz="4000" spc="-1" strike="noStrike">
              <a:solidFill>
                <a:srgbClr val="e3e3ff"/>
              </a:solidFill>
              <a:latin typeface="Arial"/>
            </a:endParaRPr>
          </a:p>
        </p:txBody>
      </p:sp>
      <p:sp>
        <p:nvSpPr>
          <p:cNvPr id="3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st value is used as a cut point to dichotomize the sample. In this table, the cut point is the sample median.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32 testers, 14 scored below the median. Think of them as the "negative" cases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maining 18 testers scored at or above the median. Think of them as the "positive" cases.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Runs Test Table with a Median Cut Point</a:t>
            </a:r>
            <a:endParaRPr b="0" lang="en-US" sz="4000" spc="-1" strike="noStrike">
              <a:solidFill>
                <a:srgbClr val="e3e3ff"/>
              </a:solidFill>
              <a:latin typeface="Arial"/>
            </a:endParaRPr>
          </a:p>
        </p:txBody>
      </p:sp>
      <p:sp>
        <p:nvSpPr>
          <p:cNvPr id="3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xt statistic is a count of the observed runs in the test variable. A run is defined as a sequence of cases on the same side of the cut point.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looking at the data, you observe that the first four cases are below the median. This sequence of four "negatives" is the first run. The second run begins at case 5, whose Web site rating is equal to the median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Runs Test Table with a Median Cut Point</a:t>
            </a:r>
            <a:endParaRPr b="0" lang="en-US" sz="4000" spc="-1" strike="noStrike">
              <a:solidFill>
                <a:srgbClr val="e3e3ff"/>
              </a:solidFill>
              <a:latin typeface="Arial"/>
            </a:endParaRPr>
          </a:p>
        </p:txBody>
      </p:sp>
      <p:sp>
        <p:nvSpPr>
          <p:cNvPr id="3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ird run begins at case 6, which is again below the median. Counting continues in the same way across all 32 cases in the file.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order of the ratings is purely random with respect to the median value, you would expect about 17 runs across these 32 cases. Because you observed only 10 runs, the Z statistic is negative.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Runs Test Table with a Median Cut Point</a:t>
            </a:r>
            <a:endParaRPr b="0" lang="en-US" sz="4000" spc="-1" strike="noStrike">
              <a:solidFill>
                <a:srgbClr val="e3e3ff"/>
              </a:solidFill>
              <a:latin typeface="Arial"/>
            </a:endParaRPr>
          </a:p>
        </p:txBody>
      </p:sp>
      <p:sp>
        <p:nvSpPr>
          <p:cNvPr id="3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2-tailed significance value is the probability of obtaining a Z statistic as or more extreme (in absolute value) than the obtained value, if the order of ratings above and below the median is purely rando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Runs Test Table with a Modal Cut Point </a:t>
            </a:r>
            <a:endParaRPr b="0" lang="en-US" sz="4000" spc="-1" strike="noStrike">
              <a:solidFill>
                <a:srgbClr val="e3e3ff"/>
              </a:solidFill>
              <a:latin typeface="Arial"/>
            </a:endParaRPr>
          </a:p>
        </p:txBody>
      </p:sp>
      <p:sp>
        <p:nvSpPr>
          <p:cNvPr id="3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is second test table, the cut point is the mode. Remember that the distribution of ratings is actually bimodal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ootnote warns you that the mode being used is the larger of the two data values.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umber of cases above and below this cut point stands in contrast to the previous table. Ratings below 12 outnumber those at or above 12 by more than a 2 to 1 margin. This is not surprising, given that 12 is also the 75th percentil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Runs Test Table with a Modal Cut Point</a:t>
            </a:r>
            <a:endParaRPr b="0" lang="en-US" sz="4000" spc="-1" strike="noStrike">
              <a:solidFill>
                <a:srgbClr val="e3e3ff"/>
              </a:solidFill>
              <a:latin typeface="Arial"/>
            </a:endParaRPr>
          </a:p>
        </p:txBody>
      </p:sp>
      <p:sp>
        <p:nvSpPr>
          <p:cNvPr id="3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it is a function of the number of positive and negative cases, the expected number of runs always depends on the cut point. In this table, the expected number of runs is about 15, which is very close to the observed number.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2-tailed significance value does not allow you to reject the null hypothesis that the order of the ratings is random with respect to the higher modal value of 12.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18:42:49Z</dcterms:created>
  <dc:creator>Gautam Bandhyopadhyay</dc:creator>
  <dc:description/>
  <dc:language>en-US</dc:language>
  <cp:lastModifiedBy>USER</cp:lastModifiedBy>
  <dcterms:modified xsi:type="dcterms:W3CDTF">2015-12-08T05:30:28Z</dcterms:modified>
  <cp:revision>72</cp:revision>
  <dc:subject/>
  <dc:title>CONTENTS OF SPSS</dc:title>
</cp:coreProperties>
</file>